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wind.wav" ContentType="audio/x-wav"/>
  <Override PartName="/ppt/media/chimes.wav" ContentType="audio/x-wav"/>
  <Override PartName="/ppt/media/image11.wmf" ContentType="image/x-wmf"/>
  <Override PartName="/ppt/media/image9.png" ContentType="image/png"/>
  <Override PartName="/ppt/media/image1.png" ContentType="image/png"/>
  <Override PartName="/ppt/media/image3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coin.wav" ContentType="audio/x-wav"/>
  <Override PartName="/ppt/media/image7.jpeg" ContentType="image/jpeg"/>
  <Override PartName="/ppt/media/voltage.wav" ContentType="audio/x-wav"/>
  <Override PartName="/ppt/media/image5.jpeg" ContentType="image/jpeg"/>
  <Override PartName="/ppt/media/image6.jpeg" ContentType="image/jpeg"/>
  <Override PartName="/ppt/media/applause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407-09B2-431E-8887-EB9DD727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392-FC73-4253-B6A7-39F430F1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EF6-385E-481A-9228-0EDD4B1B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848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092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604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848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092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2E0-337C-4191-8478-EB76C788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B6F5-414C-491A-B2B2-DBEAF378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1058-5B17-4279-A55E-B74285AC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8CC2-CDBA-4607-B82B-31D51E9A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6C0F-BA48-4298-9BF0-E03E126E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1A15-3637-4BD7-8CBC-7A110C42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98B5-53E1-43AB-A75F-2216FBDF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1D52-50D3-4F8E-B2A9-41BDB211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C8F-DBD0-45B1-9A7C-00228809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2E52-852D-4051-A9D5-1A64FE8A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A097-4C14-4EC9-99F9-7719806C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7258-8390-408A-971C-C5B088A3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8A39-2CD2-461A-9C25-86A714CF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848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092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4604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848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092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372A-F69F-4160-9B2B-4F9CA281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869A-FD1E-4667-A119-5AC3AAE9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0878-EB4F-4582-A98D-5323EE89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9495-8BAE-47DB-953A-3F93BD21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4E9D-7EFF-4FA7-B4EB-50B32387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B9D1-2298-4ECF-9CD7-1EE2DE15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1D1-EE5F-4808-AE77-BCA499DA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2941-7493-4719-B56E-E219AA76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E0DC-C0C7-4912-8668-7CD9B3F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B5FEA-EAFF-4471-A849-D396740C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0898-FD12-4AF6-8FA8-B17E9463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F6CE-0578-4EAD-B304-E9F24260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F924-C259-4EAE-A8C6-EDCFF532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2848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092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4604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2848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092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5137C-2BB1-4D42-9739-2A529AB7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FB3A-B4BF-4B4D-9B9B-72744DE5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6FE4-1B0D-43F3-AFEF-18ECA95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2E7FB-0259-4781-AFB2-6E301B86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6F4-ECB8-4D55-A6DF-65117DBF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AD8E8-AEEE-4C64-82FF-984DA0B4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98291-7DBC-4281-A977-4B0AD1D9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B18BC-50F0-4BF8-9196-F8C6D025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1CB2-4131-4B55-8CAF-CA88A8A6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A980-2797-4733-B07C-9C1ACE5A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1530-2332-4D20-8B29-3D4A4B4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E4515-E2D7-4798-AF2A-88DC4487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E31D1-4516-4BEF-9D94-51BBC069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2848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1092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4604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2848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1092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B69B3-E9D8-4CBB-B00C-0FE7ED2C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5C63-2E80-417D-AB7A-19AAEDDB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FB1-DC92-44EE-8E67-285EA654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8CC3-02E4-4B1F-8B55-F92632C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62B5-2BC5-418A-8128-832BF638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9C860-4C07-44EC-97C8-2103634D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E8C20-B1EC-4BE8-AEBF-339B22DC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A1CA-7C7D-4CB4-B572-A931438E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A9DF-1BAD-4BC2-BACF-59531A7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57F0C-3A3A-4A01-815C-FD422918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DB2F0-FB1C-4531-801E-14B23B9F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7B613-5190-42A2-BB95-0541DD4F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DDE6-F410-4B2B-8ADF-03997075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4B9-79EB-4CB6-8A7C-19B68CA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2848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1092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4604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2848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1092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28B2B-6534-401D-AB6F-01B04998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14F8F-A6BD-4B22-BEAC-D06DC507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4DCE-3517-498F-B25E-7BC8265E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C42E4-7B49-4305-804F-688E0D98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72731-C6E8-4B33-8559-9D864730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BB4B1-7770-4429-B3D9-43BA486E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91E88-2F95-4B6C-97B0-C4906AF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10CDF-2E4B-4CC5-BAFC-970A00E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5463-389E-49AF-9E9B-D5EFF2C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B50E-B8CE-43F5-9764-1BC067F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4CA-C6BC-4BF7-A451-9D7BA33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50B42-6E7D-48EE-BBE3-66625E17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87CFC-1FE0-4598-8511-8654A06D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2848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1092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4604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2848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1092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A95C4-6E78-4332-96DC-D54A083F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23613-C7AD-4D57-8031-7D1A0623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AF091-F627-4F6B-86E7-24F10B4A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1A7F5-8AD5-4DC0-8A77-C0C36145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BCE0-49C7-4E51-9338-CF4CDD34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B6AE4-BFAF-468B-B928-E5E12723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1BE3-BDA5-40F7-BD6E-E4E8B8FF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AC108-C317-4704-8F07-09EE789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147-BDAC-426B-978C-F19DBFC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0D927-E33A-4C3D-8A7D-3A214EB1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E44C-0D73-42B7-8773-7205D91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3AA5E-7B96-4403-B8A0-4104C947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36B27-28BF-4EC0-840D-1BF82F96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848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1092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4604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848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1092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9CC2-3FC1-46B2-B4E1-22D38732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04B3A-468B-4600-9FF5-B3E77218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5571-7C3A-4586-B6DB-A495AF15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DF91-E9F8-4FEC-8147-9BD605F8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5EFC-D98F-4B37-B10A-B3A759B0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BD989-C915-4D31-BB5D-054756FE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66B-B36D-47B9-8D68-73A7E01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1414C-CCFD-48F2-AF67-1EFBB054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76C5C-24D3-4730-9C0F-5721F7E6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B304-A41E-4574-95E7-E57A429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7EFE5-0338-451B-BDEE-E36458A7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6040" y="3886200"/>
            <a:ext cx="822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5AB09-02FC-4878-B533-9D4BFF4A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3080" y="148392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4604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3080" y="3886200"/>
            <a:ext cx="40158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7429D-6A81-4735-AE4F-81368CF1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604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2848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10920" y="148392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4604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2848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10920" y="3886200"/>
            <a:ext cx="26496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185C8-9B74-492F-81DF-8890FAC9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a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-4水背景"/>
          <p:cNvPicPr/>
          <p:nvPr/>
        </p:nvPicPr>
        <p:blipFill>
          <a:blip r:embed="rId2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F5FE-92F7-4DE5-B962-2CD8B4BC35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BE98-B7E9-41E6-97B1-C45F895AF63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1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1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2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8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0"/>
          <p:cNvGrpSpPr/>
          <p:nvPr/>
        </p:nvGrpSpPr>
        <p:grpSpPr>
          <a:xfrm>
            <a:off x="7167960" y="-82080"/>
            <a:ext cx="2434680" cy="2256480"/>
            <a:chOff x="7167960" y="-82080"/>
            <a:chExt cx="2434680" cy="2256480"/>
          </a:xfrm>
        </p:grpSpPr>
        <p:grpSp>
          <p:nvGrpSpPr>
            <p:cNvPr id="81" name="Group 41"/>
            <p:cNvGrpSpPr/>
            <p:nvPr/>
          </p:nvGrpSpPr>
          <p:grpSpPr>
            <a:xfrm>
              <a:off x="7167960" y="-82080"/>
              <a:ext cx="2434680" cy="2256480"/>
              <a:chOff x="7167960" y="-82080"/>
              <a:chExt cx="2434680" cy="2256480"/>
            </a:xfrm>
          </p:grpSpPr>
          <p:sp>
            <p:nvSpPr>
              <p:cNvPr id="82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43"/>
              <p:cNvGrpSpPr/>
              <p:nvPr/>
            </p:nvGrpSpPr>
            <p:grpSpPr>
              <a:xfrm>
                <a:off x="7167960" y="-82080"/>
                <a:ext cx="2434680" cy="2256480"/>
                <a:chOff x="7167960" y="-82080"/>
                <a:chExt cx="2434680" cy="2256480"/>
              </a:xfrm>
            </p:grpSpPr>
            <p:sp>
              <p:nvSpPr>
                <p:cNvPr id="84" name="未知"/>
                <p:cNvSpPr/>
                <p:nvPr/>
              </p:nvSpPr>
              <p:spPr>
                <a:xfrm rot="18427200">
                  <a:off x="7848360" y="114120"/>
                  <a:ext cx="2455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 rot="18427200">
                  <a:off x="7978320" y="50004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rot="18427200">
                  <a:off x="7674840" y="263880"/>
                  <a:ext cx="8100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 rot="18427200">
                  <a:off x="7777440" y="-20160"/>
                  <a:ext cx="12153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未知"/>
                <p:cNvSpPr/>
                <p:nvPr/>
              </p:nvSpPr>
              <p:spPr>
                <a:xfrm rot="18427200">
                  <a:off x="8374680" y="1404000"/>
                  <a:ext cx="2707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 rot="18427200">
                  <a:off x="8304480" y="1257840"/>
                  <a:ext cx="2905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rot="18427200">
                  <a:off x="7878240" y="303120"/>
                  <a:ext cx="2901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未知"/>
                <p:cNvSpPr/>
                <p:nvPr/>
              </p:nvSpPr>
              <p:spPr>
                <a:xfrm rot="18427200">
                  <a:off x="7820280" y="192600"/>
                  <a:ext cx="2869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0" name="未知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5C8-090F-48AF-BDF6-1819FE542C50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9EF1-DDD3-471E-8419-A1F7AC046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2272-43BA-483A-8443-709BFB1096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15000"/>
              </a:lnSpc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15000"/>
              </a:lnSpc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7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1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18"/>
          <p:cNvGrpSpPr/>
          <p:nvPr/>
        </p:nvGrpSpPr>
        <p:grpSpPr>
          <a:xfrm>
            <a:off x="7770240" y="4312440"/>
            <a:ext cx="999000" cy="1171440"/>
            <a:chOff x="7770240" y="4312440"/>
            <a:chExt cx="999000" cy="1171440"/>
          </a:xfrm>
        </p:grpSpPr>
        <p:sp>
          <p:nvSpPr>
            <p:cNvPr id="267" name="未知"/>
            <p:cNvSpPr/>
            <p:nvPr/>
          </p:nvSpPr>
          <p:spPr>
            <a:xfrm rot="7320000">
              <a:off x="7759800" y="46353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7320000">
              <a:off x="7914240" y="459036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22"/>
            <p:cNvGrpSpPr/>
            <p:nvPr/>
          </p:nvGrpSpPr>
          <p:grpSpPr>
            <a:xfrm>
              <a:off x="7770240" y="4312440"/>
              <a:ext cx="999000" cy="1171440"/>
              <a:chOff x="7770240" y="4312440"/>
              <a:chExt cx="999000" cy="1171440"/>
            </a:xfrm>
          </p:grpSpPr>
          <p:sp>
            <p:nvSpPr>
              <p:cNvPr id="271" name="未知"/>
              <p:cNvSpPr/>
              <p:nvPr/>
            </p:nvSpPr>
            <p:spPr>
              <a:xfrm rot="7320000">
                <a:off x="7918560" y="5028480"/>
                <a:ext cx="93600" cy="1011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 rot="7320000">
                <a:off x="7740000" y="4639680"/>
                <a:ext cx="1058760" cy="5166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 rot="7320000">
                <a:off x="8058600" y="4751280"/>
                <a:ext cx="749160" cy="292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 rot="7320000">
                <a:off x="8509680" y="4523760"/>
                <a:ext cx="100080" cy="1958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 rot="7320000">
                <a:off x="8137440" y="4724640"/>
                <a:ext cx="306360" cy="172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4634-D900-4CB9-B509-590A93C6616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20" name="未知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D88B-37A6-4451-874B-C9F9EBE136D3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44604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15000"/>
              </a:lnSpc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15000"/>
              </a:lnSpc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9EF8-827D-42E6-A782-91C792F6E3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wind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15"/>
          <p:cNvPicPr/>
          <p:nvPr/>
        </p:nvPicPr>
        <p:blipFill>
          <a:blip r:embed="rId1"/>
          <a:stretch/>
        </p:blipFill>
        <p:spPr>
          <a:xfrm>
            <a:off x="36360" y="2206800"/>
            <a:ext cx="9072720" cy="46796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4105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彩云简体"/>
                <a:ea typeface="方正彩云简体"/>
              </a:rPr>
              <a:t>课题  </a:t>
            </a:r>
            <a:r>
              <a:rPr b="0" lang="zh-CN" sz="4000" spc="-1" strike="noStrike">
                <a:solidFill>
                  <a:srgbClr val="000000"/>
                </a:solidFill>
                <a:latin typeface="方正彩云简体"/>
                <a:ea typeface="方正彩云简体"/>
              </a:rPr>
              <a:t>1</a:t>
            </a:r>
            <a:br>
              <a:rPr sz="6600"/>
            </a:b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质量守恒定律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539640" y="2276640"/>
            <a:ext cx="1297080" cy="1152360"/>
            <a:chOff x="539640" y="2276640"/>
            <a:chExt cx="1297080" cy="1152360"/>
          </a:xfrm>
        </p:grpSpPr>
        <p:sp>
          <p:nvSpPr>
            <p:cNvPr id="472" name="Oval 3"/>
            <p:cNvSpPr/>
            <p:nvPr/>
          </p:nvSpPr>
          <p:spPr>
            <a:xfrm>
              <a:off x="539640" y="2276640"/>
              <a:ext cx="1297080" cy="1152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a2a2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>
              <a:off x="900000" y="2637000"/>
              <a:ext cx="504720" cy="504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Oval 5"/>
          <p:cNvSpPr/>
          <p:nvPr/>
        </p:nvSpPr>
        <p:spPr>
          <a:xfrm>
            <a:off x="1619280" y="2133720"/>
            <a:ext cx="504720" cy="503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27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1619280" y="3068640"/>
            <a:ext cx="504720" cy="503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27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7"/>
          <p:cNvGrpSpPr/>
          <p:nvPr/>
        </p:nvGrpSpPr>
        <p:grpSpPr>
          <a:xfrm>
            <a:off x="539640" y="4148280"/>
            <a:ext cx="1297080" cy="1152360"/>
            <a:chOff x="539640" y="4148280"/>
            <a:chExt cx="1297080" cy="1152360"/>
          </a:xfrm>
        </p:grpSpPr>
        <p:sp>
          <p:nvSpPr>
            <p:cNvPr id="477" name="Oval 8"/>
            <p:cNvSpPr/>
            <p:nvPr/>
          </p:nvSpPr>
          <p:spPr>
            <a:xfrm>
              <a:off x="539640" y="4148280"/>
              <a:ext cx="1297080" cy="1152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a2a2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9"/>
            <p:cNvSpPr/>
            <p:nvPr/>
          </p:nvSpPr>
          <p:spPr>
            <a:xfrm>
              <a:off x="900000" y="4508640"/>
              <a:ext cx="504720" cy="504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Oval 10"/>
          <p:cNvSpPr/>
          <p:nvPr/>
        </p:nvSpPr>
        <p:spPr>
          <a:xfrm>
            <a:off x="1692360" y="4076640"/>
            <a:ext cx="504720" cy="503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27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1619280" y="4941720"/>
            <a:ext cx="504720" cy="503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27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2"/>
          <p:cNvGrpSpPr/>
          <p:nvPr/>
        </p:nvGrpSpPr>
        <p:grpSpPr>
          <a:xfrm>
            <a:off x="539640" y="2133720"/>
            <a:ext cx="1584360" cy="3309840"/>
            <a:chOff x="539640" y="2133720"/>
            <a:chExt cx="1584360" cy="3309840"/>
          </a:xfrm>
        </p:grpSpPr>
        <p:grpSp>
          <p:nvGrpSpPr>
            <p:cNvPr id="482" name="Group 13"/>
            <p:cNvGrpSpPr/>
            <p:nvPr/>
          </p:nvGrpSpPr>
          <p:grpSpPr>
            <a:xfrm>
              <a:off x="539640" y="2133720"/>
              <a:ext cx="1584360" cy="1438200"/>
              <a:chOff x="539640" y="2133720"/>
              <a:chExt cx="1584360" cy="1438200"/>
            </a:xfrm>
          </p:grpSpPr>
          <p:sp>
            <p:nvSpPr>
              <p:cNvPr id="483" name="Oval 14"/>
              <p:cNvSpPr/>
              <p:nvPr/>
            </p:nvSpPr>
            <p:spPr>
              <a:xfrm>
                <a:off x="539640" y="2276640"/>
                <a:ext cx="1297080" cy="1152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a2a2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15"/>
              <p:cNvSpPr/>
              <p:nvPr/>
            </p:nvSpPr>
            <p:spPr>
              <a:xfrm>
                <a:off x="900000" y="2637000"/>
                <a:ext cx="504720" cy="504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66ff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6"/>
              <p:cNvSpPr/>
              <p:nvPr/>
            </p:nvSpPr>
            <p:spPr>
              <a:xfrm>
                <a:off x="1619280" y="2133720"/>
                <a:ext cx="504720" cy="5032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d27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17"/>
              <p:cNvSpPr/>
              <p:nvPr/>
            </p:nvSpPr>
            <p:spPr>
              <a:xfrm>
                <a:off x="1619280" y="3068640"/>
                <a:ext cx="504720" cy="5032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d27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18"/>
            <p:cNvGrpSpPr/>
            <p:nvPr/>
          </p:nvGrpSpPr>
          <p:grpSpPr>
            <a:xfrm>
              <a:off x="539640" y="4005360"/>
              <a:ext cx="1584360" cy="1438200"/>
              <a:chOff x="539640" y="4005360"/>
              <a:chExt cx="1584360" cy="1438200"/>
            </a:xfrm>
          </p:grpSpPr>
          <p:sp>
            <p:nvSpPr>
              <p:cNvPr id="488" name="Oval 19"/>
              <p:cNvSpPr/>
              <p:nvPr/>
            </p:nvSpPr>
            <p:spPr>
              <a:xfrm>
                <a:off x="539640" y="4148280"/>
                <a:ext cx="1297080" cy="1152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a2a2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20"/>
              <p:cNvSpPr/>
              <p:nvPr/>
            </p:nvSpPr>
            <p:spPr>
              <a:xfrm>
                <a:off x="900000" y="4508640"/>
                <a:ext cx="504720" cy="504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66ff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21"/>
              <p:cNvSpPr/>
              <p:nvPr/>
            </p:nvSpPr>
            <p:spPr>
              <a:xfrm>
                <a:off x="1619280" y="4005360"/>
                <a:ext cx="504720" cy="5032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d27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22"/>
              <p:cNvSpPr/>
              <p:nvPr/>
            </p:nvSpPr>
            <p:spPr>
              <a:xfrm>
                <a:off x="1619280" y="4940280"/>
                <a:ext cx="504720" cy="5032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d27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AutoShape 23"/>
          <p:cNvSpPr/>
          <p:nvPr/>
        </p:nvSpPr>
        <p:spPr>
          <a:xfrm>
            <a:off x="2268360" y="3716280"/>
            <a:ext cx="1366920" cy="144360"/>
          </a:xfrm>
          <a:prstGeom prst="rightArrow">
            <a:avLst>
              <a:gd name="adj1" fmla="val 50000"/>
              <a:gd name="adj2" fmla="val 236721"/>
            </a:avLst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4"/>
          <p:cNvGrpSpPr/>
          <p:nvPr/>
        </p:nvGrpSpPr>
        <p:grpSpPr>
          <a:xfrm>
            <a:off x="5148360" y="3284640"/>
            <a:ext cx="792000" cy="936360"/>
            <a:chOff x="5148360" y="3284640"/>
            <a:chExt cx="792000" cy="936360"/>
          </a:xfrm>
        </p:grpSpPr>
        <p:sp>
          <p:nvSpPr>
            <p:cNvPr id="494" name="Rectangle 25"/>
            <p:cNvSpPr/>
            <p:nvPr/>
          </p:nvSpPr>
          <p:spPr>
            <a:xfrm>
              <a:off x="5148360" y="3715920"/>
              <a:ext cx="792000" cy="7272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6"/>
            <p:cNvSpPr/>
            <p:nvPr/>
          </p:nvSpPr>
          <p:spPr>
            <a:xfrm>
              <a:off x="5508720" y="3284640"/>
              <a:ext cx="71280" cy="93636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27"/>
          <p:cNvSpPr/>
          <p:nvPr/>
        </p:nvSpPr>
        <p:spPr>
          <a:xfrm>
            <a:off x="539640" y="1197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水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8"/>
          <p:cNvSpPr/>
          <p:nvPr/>
        </p:nvSpPr>
        <p:spPr>
          <a:xfrm>
            <a:off x="3348000" y="119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氢分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9"/>
          <p:cNvSpPr/>
          <p:nvPr/>
        </p:nvSpPr>
        <p:spPr>
          <a:xfrm>
            <a:off x="694836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0">
            <a:hlinkClick r:id="rId1" action="ppaction://hlinksldjump"/>
          </p:cNvPr>
          <p:cNvSpPr/>
          <p:nvPr/>
        </p:nvSpPr>
        <p:spPr>
          <a:xfrm>
            <a:off x="7956720" y="6381720"/>
            <a:ext cx="1150920" cy="432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隶书"/>
              </a:rPr>
              <a:t>重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1"/>
          <p:cNvSpPr/>
          <p:nvPr/>
        </p:nvSpPr>
        <p:spPr>
          <a:xfrm>
            <a:off x="3234960" y="2602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电解水的微观实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C -0.00434 0.04601 0.0217 0.08578 0.05746 0.09203 C 0.09462 0.09804 0.12691 0.06682 0.13107 0.02081 C 0.13524 -0.02589 0.1684 -0.05641 0.20486 -0.05063 C 0.24062 -0.04485 0.26719 -0.00439 0.26284 0.04185 E">
                                      <p:cBhvr>
                                        <p:cTn id="182" dur="5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0.01503 C -0.01233 -0.08185 0.01475 -0.1415 0.05781 -0.1533 C 0.10208 -0.16509 0.14479 -0.12301 0.15486 -0.05688 C 0.16493 0.01017 0.20781 0.05179 0.25173 0.04162 C 0.29479 0.02982 0.32344 -0.03075 0.31284 -0.09711 E">
                                      <p:cBhvr>
                                        <p:cTn id="184" dur="5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416 C -0.00729 0.0504 0.01875 0.08994 0.05451 0.09641 C 0.09167 0.10243 0.12396 0.07121 0.12812 0.0252 C 0.13229 -0.0215 0.16545 -0.05202 0.20191 -0.04648 C 0.23767 -0.04046 0.26423 1.67630000000307E-006 0.25989 0.04624 E">
                                      <p:cBhvr>
                                        <p:cTn id="186" dur="5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-0.0104 C -0.01094 -0.07746 0.01684 -0.13688 0.06024 -0.14798 C 0.10434 -0.15884 0.1467 -0.11584 0.15607 -0.04994 C 0.16545 0.01711 0.20798 0.05965 0.25208 0.04994 C 0.29496 0.03908 0.3243 -0.02104 0.31441 -0.08717 E">
                                      <p:cBhvr>
                                        <p:cTn id="188" dur="5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069 C -0.0066 0.11122 0.05712 0.20763 0.14566 0.22058 C 0.23646 0.23468 0.31702 0.16046 0.32691 0.04925 C 0.33594 -0.06104 0.41615 -0.1348 0.50695 -0.12023 C 0.59583 -0.10682 0.66181 -0.0111 0.65347 0.09989 E">
                                      <p:cBhvr>
                                        <p:cTn id="190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407 0.010359 C -0.015723 -0.176691 0.052677 -0.337851 0.158927 -0.363051 C 0.268997 -0.388251 0.375937 -0.264322 0.399547 -0.080051 C 0.423857 0.105849 0.529067 0.230939 0.639657 0.203879 C 0.745727 0.179379 0.816217 0.015679 0.790697 -0.169531 E">
                                      <p:cBhvr>
                                        <p:cTn id="192" dur="5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ocument"/>
          <p:cNvSpPr/>
          <p:nvPr/>
        </p:nvSpPr>
        <p:spPr>
          <a:xfrm rot="19960800">
            <a:off x="755640" y="3357360"/>
            <a:ext cx="1584360" cy="2592360"/>
          </a:xfrm>
          <a:prstGeom prst="pie">
            <a:avLst/>
          </a:prstGeom>
          <a:solidFill>
            <a:srgbClr val="ccffff"/>
          </a:solidFill>
          <a:ln w="9360">
            <a:solidFill>
              <a:srgbClr val="b2b2b2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子种类变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ocument"/>
          <p:cNvSpPr/>
          <p:nvPr/>
        </p:nvSpPr>
        <p:spPr>
          <a:xfrm rot="20575800">
            <a:off x="1692360" y="1989000"/>
            <a:ext cx="1511280" cy="2594160"/>
          </a:xfrm>
          <a:prstGeom prst="pie">
            <a:avLst/>
          </a:prstGeom>
          <a:solidFill>
            <a:srgbClr val="703dff"/>
          </a:solidFill>
          <a:ln w="9360">
            <a:solidFill>
              <a:srgbClr val="b2b2b2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原子数目变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ocument"/>
          <p:cNvSpPr/>
          <p:nvPr/>
        </p:nvSpPr>
        <p:spPr>
          <a:xfrm>
            <a:off x="3203640" y="2205000"/>
            <a:ext cx="1584360" cy="2592360"/>
          </a:xfrm>
          <a:prstGeom prst="pie">
            <a:avLst/>
          </a:prstGeom>
          <a:solidFill>
            <a:srgbClr val="f1d7ef"/>
          </a:solidFill>
          <a:ln w="9360">
            <a:solidFill>
              <a:srgbClr val="b2b2b2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子质量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ocument"/>
          <p:cNvSpPr/>
          <p:nvPr/>
        </p:nvSpPr>
        <p:spPr>
          <a:xfrm>
            <a:off x="2771640" y="44280"/>
            <a:ext cx="3816360" cy="936720"/>
          </a:xfrm>
          <a:prstGeom prst="pie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化学反应前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Document"/>
          <p:cNvSpPr/>
          <p:nvPr/>
        </p:nvSpPr>
        <p:spPr>
          <a:xfrm rot="973200">
            <a:off x="4500720" y="2276280"/>
            <a:ext cx="1512720" cy="2519280"/>
          </a:xfrm>
          <a:prstGeom prst="pie">
            <a:avLst/>
          </a:prstGeom>
          <a:solidFill>
            <a:srgbClr val="703dff"/>
          </a:solidFill>
          <a:ln w="9360">
            <a:solidFill>
              <a:srgbClr val="b2b2b2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元素种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Document"/>
          <p:cNvSpPr/>
          <p:nvPr/>
        </p:nvSpPr>
        <p:spPr>
          <a:xfrm rot="1135200">
            <a:off x="6124320" y="2801880"/>
            <a:ext cx="1757160" cy="2359080"/>
          </a:xfrm>
          <a:prstGeom prst="pie">
            <a:avLst/>
          </a:prstGeom>
          <a:solidFill>
            <a:srgbClr val="ff99cc"/>
          </a:solidFill>
          <a:ln w="9360">
            <a:solidFill>
              <a:srgbClr val="b2b2b2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质总质量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 rot="1368600">
            <a:off x="4644360" y="4509720"/>
            <a:ext cx="27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不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9"/>
          <p:cNvGrpSpPr/>
          <p:nvPr/>
        </p:nvGrpSpPr>
        <p:grpSpPr>
          <a:xfrm>
            <a:off x="179280" y="1125360"/>
            <a:ext cx="8929440" cy="3887640"/>
            <a:chOff x="179280" y="1125360"/>
            <a:chExt cx="8929440" cy="3887640"/>
          </a:xfrm>
        </p:grpSpPr>
        <p:grpSp>
          <p:nvGrpSpPr>
            <p:cNvPr id="509" name="Group 10"/>
            <p:cNvGrpSpPr/>
            <p:nvPr/>
          </p:nvGrpSpPr>
          <p:grpSpPr>
            <a:xfrm>
              <a:off x="179280" y="1125360"/>
              <a:ext cx="8929440" cy="3527280"/>
              <a:chOff x="179280" y="1125360"/>
              <a:chExt cx="8929440" cy="3527280"/>
            </a:xfrm>
          </p:grpSpPr>
          <p:sp>
            <p:nvSpPr>
              <p:cNvPr id="510" name="Oval 11"/>
              <p:cNvSpPr/>
              <p:nvPr/>
            </p:nvSpPr>
            <p:spPr>
              <a:xfrm>
                <a:off x="179280" y="1341360"/>
                <a:ext cx="1089720" cy="1079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12"/>
              <p:cNvSpPr/>
              <p:nvPr/>
            </p:nvSpPr>
            <p:spPr>
              <a:xfrm>
                <a:off x="1049760" y="1125360"/>
                <a:ext cx="581040" cy="57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3"/>
              <p:cNvSpPr/>
              <p:nvPr/>
            </p:nvSpPr>
            <p:spPr>
              <a:xfrm>
                <a:off x="831960" y="2205000"/>
                <a:ext cx="581040" cy="57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4"/>
              <p:cNvSpPr/>
              <p:nvPr/>
            </p:nvSpPr>
            <p:spPr>
              <a:xfrm>
                <a:off x="3301560" y="1523880"/>
                <a:ext cx="1089720" cy="1079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5"/>
              <p:cNvSpPr/>
              <p:nvPr/>
            </p:nvSpPr>
            <p:spPr>
              <a:xfrm>
                <a:off x="3156120" y="3429000"/>
                <a:ext cx="1089720" cy="1079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6"/>
              <p:cNvSpPr/>
              <p:nvPr/>
            </p:nvSpPr>
            <p:spPr>
              <a:xfrm>
                <a:off x="250920" y="3284280"/>
                <a:ext cx="1089720" cy="107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7"/>
              <p:cNvSpPr/>
              <p:nvPr/>
            </p:nvSpPr>
            <p:spPr>
              <a:xfrm>
                <a:off x="2647440" y="1196640"/>
                <a:ext cx="581040" cy="57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8"/>
              <p:cNvSpPr/>
              <p:nvPr/>
            </p:nvSpPr>
            <p:spPr>
              <a:xfrm>
                <a:off x="4172400" y="2997000"/>
                <a:ext cx="581040" cy="57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9"/>
              <p:cNvSpPr/>
              <p:nvPr/>
            </p:nvSpPr>
            <p:spPr>
              <a:xfrm>
                <a:off x="2720880" y="2781000"/>
                <a:ext cx="580680" cy="57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20"/>
              <p:cNvSpPr/>
              <p:nvPr/>
            </p:nvSpPr>
            <p:spPr>
              <a:xfrm>
                <a:off x="977760" y="4076640"/>
                <a:ext cx="581040" cy="57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1"/>
              <p:cNvSpPr/>
              <p:nvPr/>
            </p:nvSpPr>
            <p:spPr>
              <a:xfrm>
                <a:off x="1195560" y="3141360"/>
                <a:ext cx="581040" cy="57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2"/>
              <p:cNvSpPr/>
              <p:nvPr/>
            </p:nvSpPr>
            <p:spPr>
              <a:xfrm>
                <a:off x="6277320" y="1773000"/>
                <a:ext cx="581040" cy="57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3"/>
              <p:cNvSpPr/>
              <p:nvPr/>
            </p:nvSpPr>
            <p:spPr>
              <a:xfrm>
                <a:off x="5842080" y="3068640"/>
                <a:ext cx="580680" cy="57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24"/>
              <p:cNvSpPr/>
              <p:nvPr/>
            </p:nvSpPr>
            <p:spPr>
              <a:xfrm>
                <a:off x="5770080" y="1773000"/>
                <a:ext cx="581040" cy="57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5"/>
              <p:cNvSpPr/>
              <p:nvPr/>
            </p:nvSpPr>
            <p:spPr>
              <a:xfrm>
                <a:off x="6277320" y="3068640"/>
                <a:ext cx="581040" cy="576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6"/>
              <p:cNvSpPr/>
              <p:nvPr/>
            </p:nvSpPr>
            <p:spPr>
              <a:xfrm>
                <a:off x="7803000" y="1773000"/>
                <a:ext cx="1089720" cy="107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27"/>
              <p:cNvSpPr/>
              <p:nvPr/>
            </p:nvSpPr>
            <p:spPr>
              <a:xfrm>
                <a:off x="8019000" y="2707920"/>
                <a:ext cx="1089720" cy="1079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28"/>
              <p:cNvSpPr/>
              <p:nvPr/>
            </p:nvSpPr>
            <p:spPr>
              <a:xfrm>
                <a:off x="1413360" y="2852640"/>
                <a:ext cx="1016280" cy="0"/>
              </a:xfrm>
              <a:prstGeom prst="line">
                <a:avLst/>
              </a:prstGeom>
              <a:ln w="604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29"/>
              <p:cNvSpPr/>
              <p:nvPr/>
            </p:nvSpPr>
            <p:spPr>
              <a:xfrm>
                <a:off x="4825440" y="2923920"/>
                <a:ext cx="101664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30"/>
              <p:cNvSpPr/>
              <p:nvPr/>
            </p:nvSpPr>
            <p:spPr>
              <a:xfrm>
                <a:off x="7075800" y="2923920"/>
                <a:ext cx="72684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31"/>
              <p:cNvSpPr/>
              <p:nvPr/>
            </p:nvSpPr>
            <p:spPr>
              <a:xfrm>
                <a:off x="7439760" y="2565360"/>
                <a:ext cx="0" cy="71892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Oval 32"/>
            <p:cNvSpPr/>
            <p:nvPr/>
          </p:nvSpPr>
          <p:spPr>
            <a:xfrm>
              <a:off x="4100040" y="4436640"/>
              <a:ext cx="580680" cy="57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33"/>
          <p:cNvSpPr/>
          <p:nvPr/>
        </p:nvSpPr>
        <p:spPr>
          <a:xfrm rot="20507400">
            <a:off x="1908000" y="4581000"/>
            <a:ext cx="24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不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92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192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192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192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92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192" fill="hold"/>
                                        <p:tgtEl>
                                          <p:spTgt spid="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192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192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79280" y="404640"/>
            <a:ext cx="913284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4840" indent="-20484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质量守恒的原因：（三不变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子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种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变；原子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数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变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子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质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08000" y="3718080"/>
            <a:ext cx="734544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化学反应中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分子种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子数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709680" y="371808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定改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7086960" y="4581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能改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243000" y="3070080"/>
            <a:ext cx="790200" cy="70344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">
            <a:hlinkClick r:id="" action="ppaction://hlinkshowjump?jump=previousslide"/>
          </p:cNvPr>
          <p:cNvSpPr/>
          <p:nvPr/>
        </p:nvSpPr>
        <p:spPr>
          <a:xfrm>
            <a:off x="0" y="6381720"/>
            <a:ext cx="755640" cy="260280"/>
          </a:xfrm>
          <a:custGeom>
            <a:avLst/>
            <a:gdLst>
              <a:gd name="textAreaLeft" fmla="*/ 16560 w 755640"/>
              <a:gd name="textAreaRight" fmla="*/ 739080 w 755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2652" h="21600">
                <a:moveTo>
                  <a:pt x="0" y="0"/>
                </a:moveTo>
                <a:lnTo>
                  <a:pt x="62652" y="0"/>
                </a:lnTo>
                <a:lnTo>
                  <a:pt x="62652" y="21600"/>
                </a:lnTo>
                <a:lnTo>
                  <a:pt x="0" y="21600"/>
                </a:lnTo>
                <a:close/>
              </a:path>
              <a:path fill="lightenLess" w="62652" h="21600">
                <a:moveTo>
                  <a:pt x="0" y="0"/>
                </a:moveTo>
                <a:lnTo>
                  <a:pt x="62652" y="0"/>
                </a:lnTo>
                <a:lnTo>
                  <a:pt x="61252" y="1400"/>
                </a:lnTo>
                <a:lnTo>
                  <a:pt x="1400" y="1400"/>
                </a:lnTo>
                <a:close/>
              </a:path>
              <a:path fill="darken" w="62652" h="21600">
                <a:moveTo>
                  <a:pt x="62652" y="0"/>
                </a:moveTo>
                <a:lnTo>
                  <a:pt x="62652" y="21600"/>
                </a:lnTo>
                <a:lnTo>
                  <a:pt x="61252" y="20200"/>
                </a:lnTo>
                <a:lnTo>
                  <a:pt x="61252" y="1400"/>
                </a:lnTo>
                <a:close/>
              </a:path>
              <a:path fill="darkenLess" w="62652" h="21600">
                <a:moveTo>
                  <a:pt x="62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52" y="20200"/>
                </a:lnTo>
                <a:close/>
              </a:path>
              <a:path fill="lighten" w="62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652" h="21600">
                <a:moveTo>
                  <a:pt x="24319" y="10800"/>
                </a:moveTo>
                <a:lnTo>
                  <a:pt x="38332" y="3794"/>
                </a:lnTo>
                <a:lnTo>
                  <a:pt x="3833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999999865889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828720" y="189000"/>
            <a:ext cx="1477800" cy="668160"/>
            <a:chOff x="828720" y="189000"/>
            <a:chExt cx="1477800" cy="668160"/>
          </a:xfrm>
        </p:grpSpPr>
        <p:sp>
          <p:nvSpPr>
            <p:cNvPr id="540" name="Text Box 3"/>
            <p:cNvSpPr/>
            <p:nvPr/>
          </p:nvSpPr>
          <p:spPr>
            <a:xfrm>
              <a:off x="866880" y="18900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eae7b4"/>
                  </a:solidFill>
                  <a:latin typeface="Times New Roman"/>
                  <a:ea typeface="方正舒体"/>
                </a:rPr>
                <a:t>小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4">
              <a:hlinkClick r:id="rId1" action="ppaction://hlinksldjump"/>
            </p:cNvPr>
            <p:cNvSpPr/>
            <p:nvPr/>
          </p:nvSpPr>
          <p:spPr>
            <a:xfrm>
              <a:off x="828720" y="227160"/>
              <a:ext cx="1440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ee2d06"/>
                  </a:solidFill>
                  <a:latin typeface="Times New Roman"/>
                  <a:ea typeface="方正舒体"/>
                </a:rPr>
                <a:t>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5"/>
          <p:cNvGrpSpPr/>
          <p:nvPr/>
        </p:nvGrpSpPr>
        <p:grpSpPr>
          <a:xfrm>
            <a:off x="828720" y="1557360"/>
            <a:ext cx="830160" cy="1940040"/>
            <a:chOff x="828720" y="1557360"/>
            <a:chExt cx="830160" cy="1940040"/>
          </a:xfrm>
        </p:grpSpPr>
        <p:sp>
          <p:nvSpPr>
            <p:cNvPr id="543" name="Text Box 6"/>
            <p:cNvSpPr/>
            <p:nvPr/>
          </p:nvSpPr>
          <p:spPr>
            <a:xfrm>
              <a:off x="866880" y="1557360"/>
              <a:ext cx="792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eae7b4"/>
                  </a:solidFill>
                  <a:latin typeface="Arial"/>
                </a:rPr>
                <a:t>质量守恒定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7"/>
            <p:cNvSpPr/>
            <p:nvPr/>
          </p:nvSpPr>
          <p:spPr>
            <a:xfrm>
              <a:off x="828720" y="1575000"/>
              <a:ext cx="792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ee2d06"/>
                  </a:solidFill>
                  <a:latin typeface="Arial"/>
                </a:rPr>
                <a:t>质量守恒定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AutoShape 8"/>
          <p:cNvSpPr/>
          <p:nvPr/>
        </p:nvSpPr>
        <p:spPr>
          <a:xfrm>
            <a:off x="1979640" y="1486080"/>
            <a:ext cx="431640" cy="43909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4480 h 4390920"/>
              <a:gd name="textAreaBottom" fmla="*/ 4276440 h 43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9"/>
          <p:cNvGrpSpPr/>
          <p:nvPr/>
        </p:nvGrpSpPr>
        <p:grpSpPr>
          <a:xfrm>
            <a:off x="2286000" y="1295280"/>
            <a:ext cx="1225440" cy="717840"/>
            <a:chOff x="2286000" y="1295280"/>
            <a:chExt cx="1225440" cy="717840"/>
          </a:xfrm>
        </p:grpSpPr>
        <p:sp>
          <p:nvSpPr>
            <p:cNvPr id="547" name="Text Box 10"/>
            <p:cNvSpPr/>
            <p:nvPr/>
          </p:nvSpPr>
          <p:spPr>
            <a:xfrm>
              <a:off x="2286000" y="1295280"/>
              <a:ext cx="122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ae7b4"/>
                  </a:solidFill>
                  <a:latin typeface="Arial"/>
                  <a:ea typeface="楷体_GB2312"/>
                </a:rPr>
                <a:t>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1"/>
            <p:cNvSpPr/>
            <p:nvPr/>
          </p:nvSpPr>
          <p:spPr>
            <a:xfrm>
              <a:off x="2286000" y="1309680"/>
              <a:ext cx="122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e2d06"/>
                  </a:solidFill>
                  <a:latin typeface="Arial"/>
                  <a:ea typeface="楷体_GB2312"/>
                </a:rPr>
                <a:t>内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2"/>
          <p:cNvGrpSpPr/>
          <p:nvPr/>
        </p:nvGrpSpPr>
        <p:grpSpPr>
          <a:xfrm>
            <a:off x="2362320" y="3200400"/>
            <a:ext cx="1379520" cy="721080"/>
            <a:chOff x="2362320" y="3200400"/>
            <a:chExt cx="1379520" cy="721080"/>
          </a:xfrm>
        </p:grpSpPr>
        <p:sp>
          <p:nvSpPr>
            <p:cNvPr id="550" name="Text Box 13"/>
            <p:cNvSpPr/>
            <p:nvPr/>
          </p:nvSpPr>
          <p:spPr>
            <a:xfrm>
              <a:off x="2382840" y="3200400"/>
              <a:ext cx="135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ae7b4"/>
                  </a:solidFill>
                  <a:latin typeface="Arial"/>
                  <a:ea typeface="楷体_GB2312"/>
                </a:rPr>
                <a:t>原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2362320" y="3218040"/>
              <a:ext cx="135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e2d06"/>
                  </a:solidFill>
                  <a:latin typeface="Arial"/>
                  <a:ea typeface="楷体_GB2312"/>
                </a:rPr>
                <a:t>原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5"/>
          <p:cNvGrpSpPr/>
          <p:nvPr/>
        </p:nvGrpSpPr>
        <p:grpSpPr>
          <a:xfrm>
            <a:off x="2286000" y="5192640"/>
            <a:ext cx="1547640" cy="722520"/>
            <a:chOff x="2286000" y="5192640"/>
            <a:chExt cx="1547640" cy="722520"/>
          </a:xfrm>
        </p:grpSpPr>
        <p:sp>
          <p:nvSpPr>
            <p:cNvPr id="553" name="Text Box 16"/>
            <p:cNvSpPr/>
            <p:nvPr/>
          </p:nvSpPr>
          <p:spPr>
            <a:xfrm>
              <a:off x="2320920" y="519264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ae7b4"/>
                  </a:solidFill>
                  <a:latin typeface="Arial"/>
                  <a:ea typeface="楷体_GB2312"/>
                </a:rPr>
                <a:t>应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7"/>
            <p:cNvSpPr/>
            <p:nvPr/>
          </p:nvSpPr>
          <p:spPr>
            <a:xfrm>
              <a:off x="2286000" y="5211720"/>
              <a:ext cx="151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e2d06"/>
                  </a:solidFill>
                  <a:latin typeface="Arial"/>
                  <a:ea typeface="楷体_GB2312"/>
                </a:rPr>
                <a:t>应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18"/>
          <p:cNvGrpSpPr/>
          <p:nvPr/>
        </p:nvGrpSpPr>
        <p:grpSpPr>
          <a:xfrm>
            <a:off x="3637080" y="3070080"/>
            <a:ext cx="4932000" cy="1728720"/>
            <a:chOff x="3637080" y="3070080"/>
            <a:chExt cx="4932000" cy="1728720"/>
          </a:xfrm>
        </p:grpSpPr>
        <p:sp>
          <p:nvSpPr>
            <p:cNvPr id="556" name="Rectangle 19"/>
            <p:cNvSpPr/>
            <p:nvPr/>
          </p:nvSpPr>
          <p:spPr>
            <a:xfrm>
              <a:off x="3637080" y="3070080"/>
              <a:ext cx="4932000" cy="172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0"/>
            <p:cNvSpPr/>
            <p:nvPr/>
          </p:nvSpPr>
          <p:spPr>
            <a:xfrm>
              <a:off x="4159080" y="3608280"/>
              <a:ext cx="384192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a6"/>
                  </a:solidFill>
                  <a:latin typeface="Times New Roman"/>
                  <a:ea typeface="楷体_GB2312"/>
                </a:rPr>
                <a:t>原子数目没有增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1"/>
            <p:cNvSpPr/>
            <p:nvPr/>
          </p:nvSpPr>
          <p:spPr>
            <a:xfrm>
              <a:off x="4157280" y="3070080"/>
              <a:ext cx="37353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a6"/>
                  </a:solidFill>
                  <a:latin typeface="Times New Roman"/>
                  <a:ea typeface="楷体_GB2312"/>
                </a:rPr>
                <a:t>原子种类没有改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2"/>
            <p:cNvSpPr/>
            <p:nvPr/>
          </p:nvSpPr>
          <p:spPr>
            <a:xfrm>
              <a:off x="4190400" y="4151160"/>
              <a:ext cx="407592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a6"/>
                  </a:solidFill>
                  <a:latin typeface="Times New Roman"/>
                  <a:ea typeface="楷体_GB2312"/>
                </a:rPr>
                <a:t>原子质量没有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3"/>
          <p:cNvGrpSpPr/>
          <p:nvPr/>
        </p:nvGrpSpPr>
        <p:grpSpPr>
          <a:xfrm>
            <a:off x="3780000" y="4941720"/>
            <a:ext cx="4754520" cy="1727280"/>
            <a:chOff x="3780000" y="4941720"/>
            <a:chExt cx="4754520" cy="1727280"/>
          </a:xfrm>
        </p:grpSpPr>
        <p:sp>
          <p:nvSpPr>
            <p:cNvPr id="561" name="Rectangle 24"/>
            <p:cNvSpPr/>
            <p:nvPr/>
          </p:nvSpPr>
          <p:spPr>
            <a:xfrm>
              <a:off x="3780000" y="4941720"/>
              <a:ext cx="4754520" cy="172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5"/>
            <p:cNvSpPr/>
            <p:nvPr/>
          </p:nvSpPr>
          <p:spPr>
            <a:xfrm>
              <a:off x="4251600" y="5499000"/>
              <a:ext cx="3960720" cy="57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推测一些物质的组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6"/>
            <p:cNvSpPr/>
            <p:nvPr/>
          </p:nvSpPr>
          <p:spPr>
            <a:xfrm>
              <a:off x="4046760" y="4995720"/>
              <a:ext cx="3384360" cy="50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进行有关的计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7"/>
            <p:cNvSpPr/>
            <p:nvPr/>
          </p:nvSpPr>
          <p:spPr>
            <a:xfrm>
              <a:off x="4251600" y="6075360"/>
              <a:ext cx="3529080" cy="57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解释一些实验事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28"/>
          <p:cNvGrpSpPr/>
          <p:nvPr/>
        </p:nvGrpSpPr>
        <p:grpSpPr>
          <a:xfrm>
            <a:off x="3638520" y="838080"/>
            <a:ext cx="5038560" cy="1909440"/>
            <a:chOff x="3638520" y="838080"/>
            <a:chExt cx="5038560" cy="1909440"/>
          </a:xfrm>
        </p:grpSpPr>
        <p:sp>
          <p:nvSpPr>
            <p:cNvPr id="566" name="Rectangle 29"/>
            <p:cNvSpPr/>
            <p:nvPr/>
          </p:nvSpPr>
          <p:spPr>
            <a:xfrm>
              <a:off x="3638520" y="838080"/>
              <a:ext cx="4839840" cy="1909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0"/>
            <p:cNvSpPr/>
            <p:nvPr/>
          </p:nvSpPr>
          <p:spPr>
            <a:xfrm>
              <a:off x="3712680" y="937800"/>
              <a:ext cx="4616640" cy="60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参加化学反应的各物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1"/>
            <p:cNvSpPr/>
            <p:nvPr/>
          </p:nvSpPr>
          <p:spPr>
            <a:xfrm>
              <a:off x="3985920" y="2112120"/>
              <a:ext cx="4691160" cy="556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a6"/>
                  </a:solidFill>
                  <a:latin typeface="Times New Roman"/>
                  <a:ea typeface="楷体_GB2312"/>
                </a:rPr>
                <a:t>生成的各物质的质量总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32"/>
            <p:cNvSpPr/>
            <p:nvPr/>
          </p:nvSpPr>
          <p:spPr>
            <a:xfrm>
              <a:off x="3710880" y="1517400"/>
              <a:ext cx="4617000" cy="606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的质量总和等于反应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558440" y="666720"/>
            <a:ext cx="5040720" cy="2081160"/>
            <a:chOff x="1558440" y="666720"/>
            <a:chExt cx="5040720" cy="2081160"/>
          </a:xfrm>
        </p:grpSpPr>
        <p:sp>
          <p:nvSpPr>
            <p:cNvPr id="571" name="Text Box 3"/>
            <p:cNvSpPr/>
            <p:nvPr/>
          </p:nvSpPr>
          <p:spPr>
            <a:xfrm>
              <a:off x="1818000" y="1145880"/>
              <a:ext cx="729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原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"/>
            <p:cNvSpPr/>
            <p:nvPr/>
          </p:nvSpPr>
          <p:spPr>
            <a:xfrm>
              <a:off x="3993120" y="666720"/>
              <a:ext cx="729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种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5"/>
            <p:cNvSpPr/>
            <p:nvPr/>
          </p:nvSpPr>
          <p:spPr>
            <a:xfrm>
              <a:off x="3972960" y="1389600"/>
              <a:ext cx="729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数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6"/>
            <p:cNvSpPr/>
            <p:nvPr/>
          </p:nvSpPr>
          <p:spPr>
            <a:xfrm>
              <a:off x="3972960" y="2102760"/>
              <a:ext cx="729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质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 flipH="1">
              <a:off x="5075640" y="1035360"/>
              <a:ext cx="469800" cy="1629000"/>
            </a:xfrm>
            <a:custGeom>
              <a:avLst/>
              <a:gdLst>
                <a:gd name="textAreaLeft" fmla="*/ 299880 w 469800"/>
                <a:gd name="textAreaRight" fmla="*/ 469800 w 469800"/>
                <a:gd name="textAreaTop" fmla="*/ 42480 h 1629000"/>
                <a:gd name="textAreaBottom" fmla="*/ 1586520 h 16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8"/>
            <p:cNvSpPr/>
            <p:nvPr/>
          </p:nvSpPr>
          <p:spPr>
            <a:xfrm>
              <a:off x="5869800" y="1340640"/>
              <a:ext cx="729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不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1558440" y="21052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（微观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0"/>
            <p:cNvSpPr/>
            <p:nvPr/>
          </p:nvSpPr>
          <p:spPr>
            <a:xfrm>
              <a:off x="3147480" y="1130760"/>
              <a:ext cx="470160" cy="1527480"/>
            </a:xfrm>
            <a:custGeom>
              <a:avLst/>
              <a:gdLst>
                <a:gd name="textAreaLeft" fmla="*/ 300600 w 470160"/>
                <a:gd name="textAreaRight" fmla="*/ 470520 w 470160"/>
                <a:gd name="textAreaTop" fmla="*/ 39600 h 1527480"/>
                <a:gd name="textAreaBottom" fmla="*/ 1487880 h 152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"/>
          <p:cNvGrpSpPr/>
          <p:nvPr/>
        </p:nvGrpSpPr>
        <p:grpSpPr>
          <a:xfrm>
            <a:off x="1504440" y="3213000"/>
            <a:ext cx="5001120" cy="2232000"/>
            <a:chOff x="1504440" y="3213000"/>
            <a:chExt cx="5001120" cy="2232000"/>
          </a:xfrm>
        </p:grpSpPr>
        <p:sp>
          <p:nvSpPr>
            <p:cNvPr id="580" name="AutoShape 12"/>
            <p:cNvSpPr/>
            <p:nvPr/>
          </p:nvSpPr>
          <p:spPr>
            <a:xfrm flipH="1">
              <a:off x="5195880" y="3383640"/>
              <a:ext cx="231120" cy="2061360"/>
            </a:xfrm>
            <a:custGeom>
              <a:avLst/>
              <a:gdLst>
                <a:gd name="textAreaLeft" fmla="*/ 147960 w 231120"/>
                <a:gd name="textAreaRight" fmla="*/ 231840 w 231120"/>
                <a:gd name="textAreaTop" fmla="*/ 53640 h 2061360"/>
                <a:gd name="textAreaBottom" fmla="*/ 2007720 h 206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5837040" y="4048560"/>
              <a:ext cx="6685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不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4"/>
            <p:cNvSpPr/>
            <p:nvPr/>
          </p:nvSpPr>
          <p:spPr>
            <a:xfrm>
              <a:off x="1774800" y="3441600"/>
              <a:ext cx="729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元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15"/>
            <p:cNvSpPr/>
            <p:nvPr/>
          </p:nvSpPr>
          <p:spPr>
            <a:xfrm>
              <a:off x="3328200" y="3534120"/>
              <a:ext cx="163080" cy="1047240"/>
            </a:xfrm>
            <a:custGeom>
              <a:avLst/>
              <a:gdLst>
                <a:gd name="textAreaLeft" fmla="*/ 104400 w 163080"/>
                <a:gd name="textAreaRight" fmla="*/ 163440 w 163080"/>
                <a:gd name="textAreaTop" fmla="*/ 27000 h 1047240"/>
                <a:gd name="textAreaBottom" fmla="*/ 1020240 h 104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7988"/>
                  </a:lnTo>
                  <a:cubicBezTo>
                    <a:pt x="10800" y="8888"/>
                    <a:pt x="5400" y="9788"/>
                    <a:pt x="0" y="9788"/>
                  </a:cubicBezTo>
                  <a:cubicBezTo>
                    <a:pt x="5400" y="9788"/>
                    <a:pt x="10800" y="10688"/>
                    <a:pt x="10800" y="1158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6"/>
            <p:cNvSpPr/>
            <p:nvPr/>
          </p:nvSpPr>
          <p:spPr>
            <a:xfrm>
              <a:off x="1557720" y="407736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（宏观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3991320" y="3213000"/>
              <a:ext cx="729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种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8"/>
            <p:cNvSpPr/>
            <p:nvPr/>
          </p:nvSpPr>
          <p:spPr>
            <a:xfrm>
              <a:off x="3991320" y="4056120"/>
              <a:ext cx="729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质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9"/>
            <p:cNvSpPr/>
            <p:nvPr/>
          </p:nvSpPr>
          <p:spPr>
            <a:xfrm>
              <a:off x="1504440" y="4653000"/>
              <a:ext cx="285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物质总质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20"/>
          <p:cNvGrpSpPr/>
          <p:nvPr/>
        </p:nvGrpSpPr>
        <p:grpSpPr>
          <a:xfrm>
            <a:off x="6876720" y="2133720"/>
            <a:ext cx="2170440" cy="2237400"/>
            <a:chOff x="6876720" y="2133720"/>
            <a:chExt cx="2170440" cy="2237400"/>
          </a:xfrm>
        </p:grpSpPr>
        <p:sp>
          <p:nvSpPr>
            <p:cNvPr id="589" name="AutoShape 21"/>
            <p:cNvSpPr/>
            <p:nvPr/>
          </p:nvSpPr>
          <p:spPr>
            <a:xfrm flipH="1">
              <a:off x="6876360" y="2133720"/>
              <a:ext cx="215640" cy="180000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2"/>
            <p:cNvSpPr/>
            <p:nvPr/>
          </p:nvSpPr>
          <p:spPr>
            <a:xfrm>
              <a:off x="7308720" y="2205360"/>
              <a:ext cx="173844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隶书"/>
                  <a:ea typeface="华康宋体W12(P)"/>
                </a:rPr>
                <a:t>六</a:t>
              </a:r>
              <a:r>
                <a:rPr b="1" lang="zh-CN" sz="4400" spc="-1" strike="noStrike">
                  <a:solidFill>
                    <a:srgbClr val="ff0000"/>
                  </a:solidFill>
                  <a:latin typeface="隶书"/>
                  <a:ea typeface="华康宋体W12(P)"/>
                </a:rPr>
                <a:t>个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隶书"/>
                  <a:ea typeface="华康宋体W12(P)"/>
                </a:rPr>
                <a:t>一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隶书"/>
                  <a:ea typeface="华康宋体W12(P)"/>
                </a:rPr>
                <a:t>不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664920" y="1052640"/>
            <a:ext cx="6717960" cy="1722960"/>
            <a:chOff x="664920" y="1052640"/>
            <a:chExt cx="6717960" cy="1722960"/>
          </a:xfrm>
        </p:grpSpPr>
        <p:sp>
          <p:nvSpPr>
            <p:cNvPr id="592" name="AutoShape 3"/>
            <p:cNvSpPr/>
            <p:nvPr/>
          </p:nvSpPr>
          <p:spPr>
            <a:xfrm>
              <a:off x="2628000" y="1341000"/>
              <a:ext cx="215640" cy="13687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4"/>
            <p:cNvSpPr/>
            <p:nvPr/>
          </p:nvSpPr>
          <p:spPr>
            <a:xfrm>
              <a:off x="4550400" y="105264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宏观：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物质的种类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一定改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5"/>
            <p:cNvSpPr/>
            <p:nvPr/>
          </p:nvSpPr>
          <p:spPr>
            <a:xfrm>
              <a:off x="3929400" y="2133000"/>
              <a:ext cx="255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微观：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分子种类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一定改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6"/>
            <p:cNvSpPr/>
            <p:nvPr/>
          </p:nvSpPr>
          <p:spPr>
            <a:xfrm>
              <a:off x="664920" y="1269000"/>
              <a:ext cx="1491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质 量 守 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   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二个一定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7"/>
          <p:cNvGrpSpPr/>
          <p:nvPr/>
        </p:nvGrpSpPr>
        <p:grpSpPr>
          <a:xfrm>
            <a:off x="752040" y="3573360"/>
            <a:ext cx="6291720" cy="1722240"/>
            <a:chOff x="752040" y="3573360"/>
            <a:chExt cx="6291720" cy="1722240"/>
          </a:xfrm>
        </p:grpSpPr>
        <p:sp>
          <p:nvSpPr>
            <p:cNvPr id="597" name="Text Box 8"/>
            <p:cNvSpPr/>
            <p:nvPr/>
          </p:nvSpPr>
          <p:spPr>
            <a:xfrm>
              <a:off x="752040" y="3717360"/>
              <a:ext cx="1460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质 量 守 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  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二个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可能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9"/>
            <p:cNvSpPr/>
            <p:nvPr/>
          </p:nvSpPr>
          <p:spPr>
            <a:xfrm>
              <a:off x="2628360" y="3717360"/>
              <a:ext cx="288000" cy="1512000"/>
            </a:xfrm>
            <a:custGeom>
              <a:avLst/>
              <a:gdLst>
                <a:gd name="textAreaLeft" fmla="*/ 183960 w 288000"/>
                <a:gd name="textAreaRight" fmla="*/ 288360 w 288000"/>
                <a:gd name="textAreaTop" fmla="*/ 39240 h 1512000"/>
                <a:gd name="textAreaBottom" fmla="*/ 1472760 h 151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0"/>
            <p:cNvSpPr/>
            <p:nvPr/>
          </p:nvSpPr>
          <p:spPr>
            <a:xfrm>
              <a:off x="4100760" y="357336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分子的总数可能改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1"/>
            <p:cNvSpPr/>
            <p:nvPr/>
          </p:nvSpPr>
          <p:spPr>
            <a:xfrm>
              <a:off x="4119840" y="465300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元素的化合价可能改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1756800" y="333360"/>
            <a:ext cx="57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炭在氧气中燃烧生成二氧化碳的反应可以用文字表示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929520" y="321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2771640" y="3429000"/>
            <a:ext cx="6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4573080" y="2938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5796000" y="3213000"/>
            <a:ext cx="23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1693440" y="3213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3851280" y="3573360"/>
            <a:ext cx="18003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2688480" y="328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氧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1537920" y="1125360"/>
            <a:ext cx="884520" cy="58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4016160" y="1125360"/>
            <a:ext cx="1616040" cy="58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反应条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7432200" y="1042920"/>
            <a:ext cx="1128240" cy="58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生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13"/>
          <p:cNvGrpSpPr/>
          <p:nvPr/>
        </p:nvGrpSpPr>
        <p:grpSpPr>
          <a:xfrm>
            <a:off x="1116000" y="3860640"/>
            <a:ext cx="1800360" cy="792000"/>
            <a:chOff x="1116000" y="3860640"/>
            <a:chExt cx="1800360" cy="792000"/>
          </a:xfrm>
        </p:grpSpPr>
        <p:sp>
          <p:nvSpPr>
            <p:cNvPr id="613" name="Line 14"/>
            <p:cNvSpPr/>
            <p:nvPr/>
          </p:nvSpPr>
          <p:spPr>
            <a:xfrm>
              <a:off x="1116000" y="422100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5"/>
            <p:cNvSpPr/>
            <p:nvPr/>
          </p:nvSpPr>
          <p:spPr>
            <a:xfrm>
              <a:off x="1116000" y="3860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6"/>
            <p:cNvSpPr/>
            <p:nvPr/>
          </p:nvSpPr>
          <p:spPr>
            <a:xfrm>
              <a:off x="2916360" y="3860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7"/>
            <p:cNvSpPr/>
            <p:nvPr/>
          </p:nvSpPr>
          <p:spPr>
            <a:xfrm>
              <a:off x="1908000" y="42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8"/>
          <p:cNvSpPr/>
          <p:nvPr/>
        </p:nvSpPr>
        <p:spPr>
          <a:xfrm>
            <a:off x="1325880" y="4869000"/>
            <a:ext cx="100368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反应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19"/>
          <p:cNvGrpSpPr/>
          <p:nvPr/>
        </p:nvGrpSpPr>
        <p:grpSpPr>
          <a:xfrm>
            <a:off x="6156360" y="3933720"/>
            <a:ext cx="1368360" cy="863640"/>
            <a:chOff x="6156360" y="3933720"/>
            <a:chExt cx="1368360" cy="863640"/>
          </a:xfrm>
        </p:grpSpPr>
        <p:sp>
          <p:nvSpPr>
            <p:cNvPr id="619" name="Line 20"/>
            <p:cNvSpPr/>
            <p:nvPr/>
          </p:nvSpPr>
          <p:spPr>
            <a:xfrm>
              <a:off x="6156360" y="4292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1"/>
            <p:cNvSpPr/>
            <p:nvPr/>
          </p:nvSpPr>
          <p:spPr>
            <a:xfrm>
              <a:off x="6156360" y="393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2"/>
            <p:cNvSpPr/>
            <p:nvPr/>
          </p:nvSpPr>
          <p:spPr>
            <a:xfrm>
              <a:off x="7524720" y="393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3"/>
            <p:cNvSpPr/>
            <p:nvPr/>
          </p:nvSpPr>
          <p:spPr>
            <a:xfrm>
              <a:off x="6877080" y="4292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Text Box 24"/>
          <p:cNvSpPr/>
          <p:nvPr/>
        </p:nvSpPr>
        <p:spPr>
          <a:xfrm>
            <a:off x="6368040" y="4869000"/>
            <a:ext cx="100368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生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5"/>
          <p:cNvSpPr/>
          <p:nvPr/>
        </p:nvSpPr>
        <p:spPr>
          <a:xfrm>
            <a:off x="1620720" y="622440"/>
            <a:ext cx="5904000" cy="2779560"/>
          </a:xfrm>
          <a:prstGeom prst="irregularSeal1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26"/>
          <p:cNvSpPr/>
          <p:nvPr/>
        </p:nvSpPr>
        <p:spPr>
          <a:xfrm>
            <a:off x="3249720" y="1341360"/>
            <a:ext cx="227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起来很麻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7"/>
          <p:cNvSpPr/>
          <p:nvPr/>
        </p:nvSpPr>
        <p:spPr>
          <a:xfrm>
            <a:off x="1979640" y="20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8"/>
          <p:cNvSpPr/>
          <p:nvPr/>
        </p:nvSpPr>
        <p:spPr>
          <a:xfrm>
            <a:off x="4788000" y="21337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9"/>
          <p:cNvSpPr/>
          <p:nvPr/>
        </p:nvSpPr>
        <p:spPr>
          <a:xfrm flipH="1">
            <a:off x="5580000" y="1916280"/>
            <a:ext cx="194472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0"/>
          <p:cNvSpPr/>
          <p:nvPr/>
        </p:nvSpPr>
        <p:spPr>
          <a:xfrm>
            <a:off x="179280" y="765000"/>
            <a:ext cx="8856720" cy="56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1"/>
          <p:cNvSpPr/>
          <p:nvPr/>
        </p:nvSpPr>
        <p:spPr>
          <a:xfrm>
            <a:off x="181080" y="4149720"/>
            <a:ext cx="89629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2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2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32"/>
          <p:cNvGrpSpPr/>
          <p:nvPr/>
        </p:nvGrpSpPr>
        <p:grpSpPr>
          <a:xfrm>
            <a:off x="250920" y="2709720"/>
            <a:ext cx="8283240" cy="1505520"/>
            <a:chOff x="250920" y="2709720"/>
            <a:chExt cx="8283240" cy="1505520"/>
          </a:xfrm>
        </p:grpSpPr>
        <p:sp>
          <p:nvSpPr>
            <p:cNvPr id="632" name="Text Box 33"/>
            <p:cNvSpPr/>
            <p:nvPr/>
          </p:nvSpPr>
          <p:spPr>
            <a:xfrm>
              <a:off x="250920" y="3184920"/>
              <a:ext cx="8283240" cy="1030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Arial"/>
                </a:rPr>
                <a:t>C   +   O</a:t>
              </a:r>
              <a:r>
                <a:rPr b="1" lang="en-US" sz="5400" spc="-1" strike="noStrike" baseline="-25000">
                  <a:solidFill>
                    <a:srgbClr val="ff0000"/>
                  </a:solidFill>
                  <a:latin typeface="Arial"/>
                </a:rPr>
                <a:t>2 </a:t>
              </a:r>
              <a:r>
                <a:rPr b="1" lang="en-US" sz="5400" spc="-1" strike="noStrike">
                  <a:solidFill>
                    <a:srgbClr val="ff0000"/>
                  </a:solidFill>
                  <a:latin typeface="Arial"/>
                </a:rPr>
                <a:t>                  CO</a:t>
              </a:r>
              <a:r>
                <a:rPr b="1" lang="en-US" sz="5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34"/>
            <p:cNvGrpSpPr/>
            <p:nvPr/>
          </p:nvGrpSpPr>
          <p:grpSpPr>
            <a:xfrm>
              <a:off x="3544200" y="2709720"/>
              <a:ext cx="2581920" cy="1139040"/>
              <a:chOff x="3544200" y="2709720"/>
              <a:chExt cx="2581920" cy="1139040"/>
            </a:xfrm>
          </p:grpSpPr>
          <p:sp>
            <p:nvSpPr>
              <p:cNvPr id="634" name="Line 35"/>
              <p:cNvSpPr/>
              <p:nvPr/>
            </p:nvSpPr>
            <p:spPr>
              <a:xfrm>
                <a:off x="3544200" y="3660120"/>
                <a:ext cx="2581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36"/>
              <p:cNvSpPr/>
              <p:nvPr/>
            </p:nvSpPr>
            <p:spPr>
              <a:xfrm>
                <a:off x="3544200" y="3848760"/>
                <a:ext cx="2581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37"/>
              <p:cNvSpPr/>
              <p:nvPr/>
            </p:nvSpPr>
            <p:spPr>
              <a:xfrm>
                <a:off x="4077720" y="2709720"/>
                <a:ext cx="1520640" cy="642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Arial"/>
                  </a:rPr>
                  <a:t>点  燃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79280" y="189000"/>
            <a:ext cx="885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小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种用化学式表示化学反应的式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叫做化学方程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化学方程式表明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反应物、生成物和反应条件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反应物、生成物各物质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粒子个数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表示各物质之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质量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各物质之间的质量比，通过相对分子质量来计算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1332000" y="909720"/>
            <a:ext cx="6903720" cy="3183120"/>
            <a:chOff x="1332000" y="909720"/>
            <a:chExt cx="6903720" cy="3183120"/>
          </a:xfrm>
        </p:grpSpPr>
        <p:sp>
          <p:nvSpPr>
            <p:cNvPr id="639" name="未知"/>
            <p:cNvSpPr/>
            <p:nvPr/>
          </p:nvSpPr>
          <p:spPr>
            <a:xfrm>
              <a:off x="2833920" y="1132560"/>
              <a:ext cx="720000" cy="1593360"/>
            </a:xfrm>
            <a:custGeom>
              <a:avLst/>
              <a:gdLst/>
              <a:ahLst/>
              <a:rect l="l" t="t" r="r" b="b"/>
              <a:pathLst>
                <a:path w="209" h="506">
                  <a:moveTo>
                    <a:pt x="209" y="499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191" y="506"/>
                  </a:lnTo>
                  <a:lnTo>
                    <a:pt x="209" y="499"/>
                  </a:lnTo>
                  <a:close/>
                </a:path>
              </a:pathLst>
            </a:custGeom>
            <a:solidFill>
              <a:srgbClr val="0000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2561040" y="1110240"/>
              <a:ext cx="246960" cy="1718280"/>
            </a:xfrm>
            <a:custGeom>
              <a:avLst/>
              <a:gdLst/>
              <a:ahLst/>
              <a:rect l="l" t="t" r="r" b="b"/>
              <a:pathLst>
                <a:path w="71" h="546">
                  <a:moveTo>
                    <a:pt x="51" y="0"/>
                  </a:moveTo>
                  <a:lnTo>
                    <a:pt x="0" y="545"/>
                  </a:lnTo>
                  <a:lnTo>
                    <a:pt x="20" y="546"/>
                  </a:lnTo>
                  <a:lnTo>
                    <a:pt x="71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1721160" y="1159560"/>
              <a:ext cx="1073520" cy="1602720"/>
            </a:xfrm>
            <a:custGeom>
              <a:avLst/>
              <a:gdLst/>
              <a:ahLst/>
              <a:rect l="l" t="t" r="r" b="b"/>
              <a:pathLst>
                <a:path w="312" h="509">
                  <a:moveTo>
                    <a:pt x="295" y="0"/>
                  </a:moveTo>
                  <a:lnTo>
                    <a:pt x="0" y="499"/>
                  </a:lnTo>
                  <a:lnTo>
                    <a:pt x="17" y="509"/>
                  </a:lnTo>
                  <a:lnTo>
                    <a:pt x="312" y="1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5902560" y="1130400"/>
              <a:ext cx="785520" cy="1662120"/>
            </a:xfrm>
            <a:custGeom>
              <a:avLst/>
              <a:gdLst/>
              <a:ahLst/>
              <a:rect l="l" t="t" r="r" b="b"/>
              <a:pathLst>
                <a:path w="215" h="513">
                  <a:moveTo>
                    <a:pt x="18" y="513"/>
                  </a:moveTo>
                  <a:lnTo>
                    <a:pt x="215" y="0"/>
                  </a:lnTo>
                  <a:lnTo>
                    <a:pt x="191" y="7"/>
                  </a:lnTo>
                  <a:lnTo>
                    <a:pt x="0" y="506"/>
                  </a:lnTo>
                  <a:lnTo>
                    <a:pt x="18" y="513"/>
                  </a:lnTo>
                  <a:close/>
                </a:path>
              </a:pathLst>
            </a:custGeom>
            <a:solidFill>
              <a:srgbClr val="00007f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6634080" y="1094040"/>
              <a:ext cx="260640" cy="1769400"/>
            </a:xfrm>
            <a:custGeom>
              <a:avLst/>
              <a:gdLst/>
              <a:ahLst/>
              <a:rect l="l" t="t" r="r" b="b"/>
              <a:pathLst>
                <a:path w="72" h="546">
                  <a:moveTo>
                    <a:pt x="0" y="2"/>
                  </a:moveTo>
                  <a:lnTo>
                    <a:pt x="52" y="546"/>
                  </a:lnTo>
                  <a:lnTo>
                    <a:pt x="72" y="545"/>
                  </a:lnTo>
                  <a:lnTo>
                    <a:pt x="2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7f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6700320" y="1054440"/>
              <a:ext cx="1208880" cy="1759320"/>
            </a:xfrm>
            <a:custGeom>
              <a:avLst/>
              <a:gdLst/>
              <a:ahLst/>
              <a:rect l="l" t="t" r="r" b="b"/>
              <a:pathLst>
                <a:path w="331" h="543">
                  <a:moveTo>
                    <a:pt x="0" y="10"/>
                  </a:moveTo>
                  <a:lnTo>
                    <a:pt x="314" y="543"/>
                  </a:lnTo>
                  <a:lnTo>
                    <a:pt x="331" y="533"/>
                  </a:lnTo>
                  <a:lnTo>
                    <a:pt x="1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7f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5580720" y="2407320"/>
              <a:ext cx="2507760" cy="1040760"/>
            </a:xfrm>
            <a:custGeom>
              <a:avLst/>
              <a:gdLst/>
              <a:ahLst/>
              <a:rect l="l" t="t" r="r" b="b"/>
              <a:pathLst>
                <a:path w="724" h="371">
                  <a:moveTo>
                    <a:pt x="1" y="0"/>
                  </a:moveTo>
                  <a:lnTo>
                    <a:pt x="1" y="3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47"/>
                  </a:lnTo>
                  <a:lnTo>
                    <a:pt x="7" y="82"/>
                  </a:lnTo>
                  <a:lnTo>
                    <a:pt x="17" y="118"/>
                  </a:lnTo>
                  <a:lnTo>
                    <a:pt x="28" y="150"/>
                  </a:lnTo>
                  <a:lnTo>
                    <a:pt x="44" y="183"/>
                  </a:lnTo>
                  <a:lnTo>
                    <a:pt x="62" y="213"/>
                  </a:lnTo>
                  <a:lnTo>
                    <a:pt x="83" y="240"/>
                  </a:lnTo>
                  <a:lnTo>
                    <a:pt x="106" y="265"/>
                  </a:lnTo>
                  <a:lnTo>
                    <a:pt x="131" y="289"/>
                  </a:lnTo>
                  <a:lnTo>
                    <a:pt x="160" y="309"/>
                  </a:lnTo>
                  <a:lnTo>
                    <a:pt x="189" y="327"/>
                  </a:lnTo>
                  <a:lnTo>
                    <a:pt x="222" y="343"/>
                  </a:lnTo>
                  <a:lnTo>
                    <a:pt x="255" y="356"/>
                  </a:lnTo>
                  <a:lnTo>
                    <a:pt x="290" y="364"/>
                  </a:lnTo>
                  <a:lnTo>
                    <a:pt x="325" y="370"/>
                  </a:lnTo>
                  <a:lnTo>
                    <a:pt x="362" y="371"/>
                  </a:lnTo>
                  <a:lnTo>
                    <a:pt x="399" y="370"/>
                  </a:lnTo>
                  <a:lnTo>
                    <a:pt x="435" y="364"/>
                  </a:lnTo>
                  <a:lnTo>
                    <a:pt x="470" y="356"/>
                  </a:lnTo>
                  <a:lnTo>
                    <a:pt x="503" y="343"/>
                  </a:lnTo>
                  <a:lnTo>
                    <a:pt x="535" y="327"/>
                  </a:lnTo>
                  <a:lnTo>
                    <a:pt x="565" y="309"/>
                  </a:lnTo>
                  <a:lnTo>
                    <a:pt x="592" y="289"/>
                  </a:lnTo>
                  <a:lnTo>
                    <a:pt x="617" y="265"/>
                  </a:lnTo>
                  <a:lnTo>
                    <a:pt x="641" y="240"/>
                  </a:lnTo>
                  <a:lnTo>
                    <a:pt x="661" y="213"/>
                  </a:lnTo>
                  <a:lnTo>
                    <a:pt x="680" y="183"/>
                  </a:lnTo>
                  <a:lnTo>
                    <a:pt x="695" y="150"/>
                  </a:lnTo>
                  <a:lnTo>
                    <a:pt x="708" y="118"/>
                  </a:lnTo>
                  <a:lnTo>
                    <a:pt x="716" y="82"/>
                  </a:lnTo>
                  <a:lnTo>
                    <a:pt x="722" y="47"/>
                  </a:lnTo>
                  <a:lnTo>
                    <a:pt x="724" y="10"/>
                  </a:lnTo>
                  <a:lnTo>
                    <a:pt x="724" y="7"/>
                  </a:lnTo>
                  <a:lnTo>
                    <a:pt x="724" y="6"/>
                  </a:lnTo>
                  <a:lnTo>
                    <a:pt x="724" y="3"/>
                  </a:lnTo>
                  <a:lnTo>
                    <a:pt x="72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0"/>
            <p:cNvSpPr/>
            <p:nvPr/>
          </p:nvSpPr>
          <p:spPr>
            <a:xfrm>
              <a:off x="5518080" y="2333520"/>
              <a:ext cx="2717640" cy="17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则生成氧化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质量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7" name="Object 11"/>
            <p:cNvGraphicFramePr/>
            <p:nvPr/>
          </p:nvGraphicFramePr>
          <p:xfrm>
            <a:off x="2058480" y="909720"/>
            <a:ext cx="5530680" cy="31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8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8480" y="909720"/>
                      <a:ext cx="553068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49" name="Group 12"/>
            <p:cNvGrpSpPr/>
            <p:nvPr/>
          </p:nvGrpSpPr>
          <p:grpSpPr>
            <a:xfrm>
              <a:off x="4703760" y="924480"/>
              <a:ext cx="224640" cy="2468520"/>
              <a:chOff x="4703760" y="924480"/>
              <a:chExt cx="224640" cy="2468520"/>
            </a:xfrm>
          </p:grpSpPr>
          <p:sp>
            <p:nvSpPr>
              <p:cNvPr id="650" name="未知"/>
              <p:cNvSpPr/>
              <p:nvPr/>
            </p:nvSpPr>
            <p:spPr>
              <a:xfrm>
                <a:off x="4704840" y="929520"/>
                <a:ext cx="65160" cy="2419920"/>
              </a:xfrm>
              <a:custGeom>
                <a:avLst/>
                <a:gdLst/>
                <a:ahLst/>
                <a:rect l="l" t="t" r="r" b="b"/>
                <a:pathLst>
                  <a:path w="185" h="8966">
                    <a:moveTo>
                      <a:pt x="1" y="0"/>
                    </a:moveTo>
                    <a:lnTo>
                      <a:pt x="0" y="0"/>
                    </a:lnTo>
                    <a:lnTo>
                      <a:pt x="0" y="8966"/>
                    </a:lnTo>
                    <a:lnTo>
                      <a:pt x="111" y="8966"/>
                    </a:lnTo>
                    <a:lnTo>
                      <a:pt x="35" y="8944"/>
                    </a:lnTo>
                    <a:lnTo>
                      <a:pt x="185" y="8966"/>
                    </a:lnTo>
                    <a:lnTo>
                      <a:pt x="185" y="7226"/>
                    </a:lnTo>
                    <a:lnTo>
                      <a:pt x="150" y="7542"/>
                    </a:lnTo>
                    <a:lnTo>
                      <a:pt x="185" y="7226"/>
                    </a:lnTo>
                    <a:lnTo>
                      <a:pt x="185" y="5603"/>
                    </a:lnTo>
                    <a:lnTo>
                      <a:pt x="150" y="6345"/>
                    </a:lnTo>
                    <a:lnTo>
                      <a:pt x="185" y="5603"/>
                    </a:lnTo>
                    <a:lnTo>
                      <a:pt x="185" y="1814"/>
                    </a:lnTo>
                    <a:lnTo>
                      <a:pt x="112" y="4368"/>
                    </a:lnTo>
                    <a:lnTo>
                      <a:pt x="185" y="1814"/>
                    </a:lnTo>
                    <a:lnTo>
                      <a:pt x="142" y="138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>
                <a:off x="4703760" y="924480"/>
                <a:ext cx="19800" cy="504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56" y="24"/>
                    </a:moveTo>
                    <a:lnTo>
                      <a:pt x="0" y="0"/>
                    </a:lnTo>
                    <a:lnTo>
                      <a:pt x="3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未知"/>
              <p:cNvSpPr/>
              <p:nvPr/>
            </p:nvSpPr>
            <p:spPr>
              <a:xfrm>
                <a:off x="4704840" y="929520"/>
                <a:ext cx="223560" cy="2463120"/>
              </a:xfrm>
              <a:custGeom>
                <a:avLst/>
                <a:gdLst/>
                <a:ahLst/>
                <a:rect l="l" t="t" r="r" b="b"/>
                <a:pathLst>
                  <a:path w="635" h="9128">
                    <a:moveTo>
                      <a:pt x="141" y="1381"/>
                    </a:moveTo>
                    <a:lnTo>
                      <a:pt x="149" y="322"/>
                    </a:lnTo>
                    <a:lnTo>
                      <a:pt x="141" y="1381"/>
                    </a:lnTo>
                    <a:lnTo>
                      <a:pt x="184" y="1814"/>
                    </a:lnTo>
                    <a:lnTo>
                      <a:pt x="184" y="5603"/>
                    </a:lnTo>
                    <a:lnTo>
                      <a:pt x="184" y="7226"/>
                    </a:lnTo>
                    <a:lnTo>
                      <a:pt x="184" y="8966"/>
                    </a:lnTo>
                    <a:lnTo>
                      <a:pt x="110" y="8966"/>
                    </a:lnTo>
                    <a:lnTo>
                      <a:pt x="635" y="9128"/>
                    </a:lnTo>
                    <a:lnTo>
                      <a:pt x="635" y="161"/>
                    </a:lnTo>
                    <a:lnTo>
                      <a:pt x="449" y="161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141" y="1381"/>
                    </a:lnTo>
                    <a:close/>
                    <a:moveTo>
                      <a:pt x="334" y="482"/>
                    </a:moveTo>
                    <a:lnTo>
                      <a:pt x="334" y="1540"/>
                    </a:lnTo>
                    <a:lnTo>
                      <a:pt x="334" y="482"/>
                    </a:lnTo>
                    <a:close/>
                    <a:moveTo>
                      <a:pt x="484" y="3380"/>
                    </a:moveTo>
                    <a:lnTo>
                      <a:pt x="334" y="6507"/>
                    </a:lnTo>
                    <a:lnTo>
                      <a:pt x="484" y="3380"/>
                    </a:lnTo>
                    <a:close/>
                    <a:moveTo>
                      <a:pt x="484" y="6368"/>
                    </a:moveTo>
                    <a:lnTo>
                      <a:pt x="334" y="7702"/>
                    </a:lnTo>
                    <a:lnTo>
                      <a:pt x="484" y="6368"/>
                    </a:lnTo>
                    <a:close/>
                    <a:moveTo>
                      <a:pt x="372" y="1908"/>
                    </a:moveTo>
                    <a:lnTo>
                      <a:pt x="297" y="4529"/>
                    </a:lnTo>
                    <a:lnTo>
                      <a:pt x="372" y="1908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未知"/>
              <p:cNvSpPr/>
              <p:nvPr/>
            </p:nvSpPr>
            <p:spPr>
              <a:xfrm>
                <a:off x="4723560" y="929520"/>
                <a:ext cx="139680" cy="44280"/>
              </a:xfrm>
              <a:custGeom>
                <a:avLst/>
                <a:gdLst/>
                <a:ahLst/>
                <a:rect l="l" t="t" r="r" b="b"/>
                <a:pathLst>
                  <a:path w="396" h="161">
                    <a:moveTo>
                      <a:pt x="396" y="161"/>
                    </a:moveTo>
                    <a:lnTo>
                      <a:pt x="396" y="0"/>
                    </a:lnTo>
                    <a:lnTo>
                      <a:pt x="0" y="0"/>
                    </a:lnTo>
                    <a:lnTo>
                      <a:pt x="396" y="161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>
                <a:off x="4716360" y="3344400"/>
                <a:ext cx="53280" cy="5040"/>
              </a:xfrm>
              <a:custGeom>
                <a:avLst/>
                <a:gdLst/>
                <a:ahLst/>
                <a:rect l="l" t="t" r="r" b="b"/>
                <a:pathLst>
                  <a:path w="150" h="22">
                    <a:moveTo>
                      <a:pt x="150" y="22"/>
                    </a:moveTo>
                    <a:lnTo>
                      <a:pt x="0" y="0"/>
                    </a:lnTo>
                    <a:lnTo>
                      <a:pt x="76" y="22"/>
                    </a:lnTo>
                    <a:lnTo>
                      <a:pt x="150" y="22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8"/>
              <p:cNvSpPr/>
              <p:nvPr/>
            </p:nvSpPr>
            <p:spPr>
              <a:xfrm flipV="1">
                <a:off x="4757400" y="2441520"/>
                <a:ext cx="12240" cy="20052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>
                <a:off x="4703760" y="924480"/>
                <a:ext cx="19800" cy="504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56" y="24"/>
                    </a:moveTo>
                    <a:lnTo>
                      <a:pt x="0" y="0"/>
                    </a:lnTo>
                    <a:lnTo>
                      <a:pt x="3" y="24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0"/>
              <p:cNvSpPr/>
              <p:nvPr/>
            </p:nvSpPr>
            <p:spPr>
              <a:xfrm flipH="1">
                <a:off x="4754520" y="1017000"/>
                <a:ext cx="2880" cy="2858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1"/>
              <p:cNvSpPr/>
              <p:nvPr/>
            </p:nvSpPr>
            <p:spPr>
              <a:xfrm flipH="1" flipV="1">
                <a:off x="4704840" y="929160"/>
                <a:ext cx="49680" cy="37332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2"/>
              <p:cNvSpPr/>
              <p:nvPr/>
            </p:nvSpPr>
            <p:spPr>
              <a:xfrm>
                <a:off x="4704840" y="929520"/>
                <a:ext cx="18360" cy="72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3"/>
              <p:cNvSpPr/>
              <p:nvPr/>
            </p:nvSpPr>
            <p:spPr>
              <a:xfrm flipH="1" flipV="1">
                <a:off x="4754520" y="1302840"/>
                <a:ext cx="15120" cy="11628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4"/>
              <p:cNvSpPr/>
              <p:nvPr/>
            </p:nvSpPr>
            <p:spPr>
              <a:xfrm flipV="1">
                <a:off x="4822200" y="1060560"/>
                <a:ext cx="1440" cy="2858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未知"/>
              <p:cNvSpPr/>
              <p:nvPr/>
            </p:nvSpPr>
            <p:spPr>
              <a:xfrm>
                <a:off x="4723560" y="929520"/>
                <a:ext cx="139680" cy="44280"/>
              </a:xfrm>
              <a:custGeom>
                <a:avLst/>
                <a:gdLst/>
                <a:ahLst/>
                <a:rect l="l" t="t" r="r" b="b"/>
                <a:pathLst>
                  <a:path w="396" h="161">
                    <a:moveTo>
                      <a:pt x="396" y="161"/>
                    </a:moveTo>
                    <a:lnTo>
                      <a:pt x="396" y="0"/>
                    </a:lnTo>
                    <a:lnTo>
                      <a:pt x="0" y="0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未知"/>
              <p:cNvSpPr/>
              <p:nvPr/>
            </p:nvSpPr>
            <p:spPr>
              <a:xfrm>
                <a:off x="4743000" y="974160"/>
                <a:ext cx="185400" cy="2418840"/>
              </a:xfrm>
              <a:custGeom>
                <a:avLst/>
                <a:gdLst/>
                <a:ahLst/>
                <a:rect l="l" t="t" r="r" b="b"/>
                <a:pathLst>
                  <a:path w="525" h="8967">
                    <a:moveTo>
                      <a:pt x="339" y="0"/>
                    </a:moveTo>
                    <a:lnTo>
                      <a:pt x="525" y="0"/>
                    </a:lnTo>
                    <a:lnTo>
                      <a:pt x="525" y="8967"/>
                    </a:lnTo>
                    <a:lnTo>
                      <a:pt x="0" y="8805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7"/>
              <p:cNvSpPr/>
              <p:nvPr/>
            </p:nvSpPr>
            <p:spPr>
              <a:xfrm>
                <a:off x="4723560" y="929520"/>
                <a:ext cx="139680" cy="4428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未知"/>
              <p:cNvSpPr/>
              <p:nvPr/>
            </p:nvSpPr>
            <p:spPr>
              <a:xfrm>
                <a:off x="4704840" y="929520"/>
                <a:ext cx="38160" cy="2419920"/>
              </a:xfrm>
              <a:custGeom>
                <a:avLst/>
                <a:gdLst/>
                <a:ahLst/>
                <a:rect l="l" t="t" r="r" b="b"/>
                <a:pathLst>
                  <a:path w="111" h="8966">
                    <a:moveTo>
                      <a:pt x="1" y="0"/>
                    </a:moveTo>
                    <a:lnTo>
                      <a:pt x="0" y="0"/>
                    </a:lnTo>
                    <a:lnTo>
                      <a:pt x="0" y="8966"/>
                    </a:lnTo>
                    <a:lnTo>
                      <a:pt x="111" y="8966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29"/>
              <p:cNvSpPr/>
              <p:nvPr/>
            </p:nvSpPr>
            <p:spPr>
              <a:xfrm flipV="1">
                <a:off x="4822200" y="1841400"/>
                <a:ext cx="53640" cy="84420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0"/>
              <p:cNvSpPr/>
              <p:nvPr/>
            </p:nvSpPr>
            <p:spPr>
              <a:xfrm flipV="1">
                <a:off x="4757400" y="2879640"/>
                <a:ext cx="12240" cy="8532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未知"/>
              <p:cNvSpPr/>
              <p:nvPr/>
            </p:nvSpPr>
            <p:spPr>
              <a:xfrm>
                <a:off x="4716360" y="3344400"/>
                <a:ext cx="53280" cy="5040"/>
              </a:xfrm>
              <a:custGeom>
                <a:avLst/>
                <a:gdLst/>
                <a:ahLst/>
                <a:rect l="l" t="t" r="r" b="b"/>
                <a:pathLst>
                  <a:path w="150" h="22">
                    <a:moveTo>
                      <a:pt x="150" y="22"/>
                    </a:moveTo>
                    <a:lnTo>
                      <a:pt x="0" y="0"/>
                    </a:lnTo>
                    <a:lnTo>
                      <a:pt x="76" y="22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32"/>
              <p:cNvSpPr/>
              <p:nvPr/>
            </p:nvSpPr>
            <p:spPr>
              <a:xfrm>
                <a:off x="4743000" y="3349800"/>
                <a:ext cx="26640" cy="72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33"/>
              <p:cNvSpPr/>
              <p:nvPr/>
            </p:nvSpPr>
            <p:spPr>
              <a:xfrm flipV="1">
                <a:off x="4770000" y="2880000"/>
                <a:ext cx="1440" cy="4694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34"/>
              <p:cNvSpPr/>
              <p:nvPr/>
            </p:nvSpPr>
            <p:spPr>
              <a:xfrm flipV="1">
                <a:off x="4822200" y="2649240"/>
                <a:ext cx="53640" cy="35928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35"/>
              <p:cNvSpPr/>
              <p:nvPr/>
            </p:nvSpPr>
            <p:spPr>
              <a:xfrm flipV="1">
                <a:off x="4770000" y="2441520"/>
                <a:ext cx="1440" cy="43812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36"/>
              <p:cNvSpPr/>
              <p:nvPr/>
            </p:nvSpPr>
            <p:spPr>
              <a:xfrm flipV="1">
                <a:off x="4809960" y="1443960"/>
                <a:ext cx="26640" cy="70812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37"/>
              <p:cNvSpPr/>
              <p:nvPr/>
            </p:nvSpPr>
            <p:spPr>
              <a:xfrm flipV="1">
                <a:off x="4743000" y="1419840"/>
                <a:ext cx="26640" cy="68832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38"/>
              <p:cNvSpPr/>
              <p:nvPr/>
            </p:nvSpPr>
            <p:spPr>
              <a:xfrm flipV="1">
                <a:off x="4770000" y="1419480"/>
                <a:ext cx="1440" cy="10220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未知"/>
            <p:cNvSpPr/>
            <p:nvPr/>
          </p:nvSpPr>
          <p:spPr>
            <a:xfrm>
              <a:off x="1394280" y="2353320"/>
              <a:ext cx="2504520" cy="1070280"/>
            </a:xfrm>
            <a:custGeom>
              <a:avLst/>
              <a:gdLst/>
              <a:ahLst/>
              <a:rect l="l" t="t" r="r" b="b"/>
              <a:pathLst>
                <a:path w="721" h="371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47"/>
                  </a:lnTo>
                  <a:lnTo>
                    <a:pt x="7" y="82"/>
                  </a:lnTo>
                  <a:lnTo>
                    <a:pt x="16" y="118"/>
                  </a:lnTo>
                  <a:lnTo>
                    <a:pt x="29" y="150"/>
                  </a:lnTo>
                  <a:lnTo>
                    <a:pt x="44" y="183"/>
                  </a:lnTo>
                  <a:lnTo>
                    <a:pt x="63" y="212"/>
                  </a:lnTo>
                  <a:lnTo>
                    <a:pt x="82" y="239"/>
                  </a:lnTo>
                  <a:lnTo>
                    <a:pt x="107" y="265"/>
                  </a:lnTo>
                  <a:lnTo>
                    <a:pt x="132" y="289"/>
                  </a:lnTo>
                  <a:lnTo>
                    <a:pt x="159" y="309"/>
                  </a:lnTo>
                  <a:lnTo>
                    <a:pt x="189" y="327"/>
                  </a:lnTo>
                  <a:lnTo>
                    <a:pt x="221" y="343"/>
                  </a:lnTo>
                  <a:lnTo>
                    <a:pt x="254" y="356"/>
                  </a:lnTo>
                  <a:lnTo>
                    <a:pt x="289" y="364"/>
                  </a:lnTo>
                  <a:lnTo>
                    <a:pt x="325" y="370"/>
                  </a:lnTo>
                  <a:lnTo>
                    <a:pt x="362" y="371"/>
                  </a:lnTo>
                  <a:lnTo>
                    <a:pt x="398" y="370"/>
                  </a:lnTo>
                  <a:lnTo>
                    <a:pt x="434" y="364"/>
                  </a:lnTo>
                  <a:lnTo>
                    <a:pt x="468" y="356"/>
                  </a:lnTo>
                  <a:lnTo>
                    <a:pt x="502" y="343"/>
                  </a:lnTo>
                  <a:lnTo>
                    <a:pt x="533" y="327"/>
                  </a:lnTo>
                  <a:lnTo>
                    <a:pt x="563" y="309"/>
                  </a:lnTo>
                  <a:lnTo>
                    <a:pt x="590" y="289"/>
                  </a:lnTo>
                  <a:lnTo>
                    <a:pt x="617" y="265"/>
                  </a:lnTo>
                  <a:lnTo>
                    <a:pt x="639" y="239"/>
                  </a:lnTo>
                  <a:lnTo>
                    <a:pt x="660" y="212"/>
                  </a:lnTo>
                  <a:lnTo>
                    <a:pt x="677" y="183"/>
                  </a:lnTo>
                  <a:lnTo>
                    <a:pt x="693" y="150"/>
                  </a:lnTo>
                  <a:lnTo>
                    <a:pt x="706" y="118"/>
                  </a:lnTo>
                  <a:lnTo>
                    <a:pt x="714" y="82"/>
                  </a:lnTo>
                  <a:lnTo>
                    <a:pt x="720" y="47"/>
                  </a:lnTo>
                  <a:lnTo>
                    <a:pt x="721" y="10"/>
                  </a:lnTo>
                  <a:lnTo>
                    <a:pt x="721" y="7"/>
                  </a:lnTo>
                  <a:lnTo>
                    <a:pt x="721" y="4"/>
                  </a:lnTo>
                  <a:lnTo>
                    <a:pt x="721" y="3"/>
                  </a:lnTo>
                  <a:lnTo>
                    <a:pt x="7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0"/>
            <p:cNvSpPr/>
            <p:nvPr/>
          </p:nvSpPr>
          <p:spPr>
            <a:xfrm>
              <a:off x="1332000" y="2366280"/>
              <a:ext cx="258732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克镁与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克氧气恰好完全反应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Rectangle 41"/>
          <p:cNvSpPr/>
          <p:nvPr/>
        </p:nvSpPr>
        <p:spPr>
          <a:xfrm>
            <a:off x="6300720" y="321300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2"/>
          <p:cNvSpPr/>
          <p:nvPr/>
        </p:nvSpPr>
        <p:spPr>
          <a:xfrm>
            <a:off x="252360" y="4076640"/>
            <a:ext cx="86756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  6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克碳与一定量的氧气恰好完全反应，生成二氧化碳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2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克，有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克氧气参加了反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3"/>
          <p:cNvSpPr/>
          <p:nvPr/>
        </p:nvSpPr>
        <p:spPr>
          <a:xfrm>
            <a:off x="6804000" y="4510080"/>
            <a:ext cx="115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4"/>
          <p:cNvSpPr/>
          <p:nvPr/>
        </p:nvSpPr>
        <p:spPr>
          <a:xfrm>
            <a:off x="179280" y="15573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5"/>
          <p:cNvSpPr/>
          <p:nvPr/>
        </p:nvSpPr>
        <p:spPr>
          <a:xfrm>
            <a:off x="0" y="44280"/>
            <a:ext cx="3889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达标测试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37800" y="549360"/>
            <a:ext cx="899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加热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克氯酸钾和二氧化锰的混合物，反应后称得残留物的质量总和为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5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克，则生成氧气的质量为 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在化学反应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+B=C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中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和足量的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反应生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，则参加反应的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的质量是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(         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克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2103480" y="2930400"/>
            <a:ext cx="8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4861080" y="1844640"/>
            <a:ext cx="196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.48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539640" y="3502080"/>
            <a:ext cx="15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4500720" y="4724280"/>
            <a:ext cx="13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7"/>
          <p:cNvSpPr/>
          <p:nvPr/>
        </p:nvSpPr>
        <p:spPr>
          <a:xfrm>
            <a:off x="4788000" y="2492280"/>
            <a:ext cx="2089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316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康宋体W12(P)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康宋体W12(P)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6720" y="1412640"/>
            <a:ext cx="82296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理解质量守恒定律的涵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2.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从微观角度理解质量守恒定律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3.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培养应用实验方法来定量研究问题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分析问题的能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97956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质量守恒定律解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细铁丝在氧气中燃烧后，生成物的质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细铁丝的质量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468360" y="4038480"/>
            <a:ext cx="8361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878120" y="2925720"/>
            <a:ext cx="5057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细铁丝在氧气中燃烧是铁和氧气反应生成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四氧化三铁。根据质量守恒定律，四氧化三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质量等于参加反应的铁和氧气的质量总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所以生成物的质量比细铁丝的质量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08000" y="476280"/>
            <a:ext cx="9001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现象可用质量守恒定律解释的是（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水受热变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水蒸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纸在空气中燃烧后化为灰烬，灰烬的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量比纸的质量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在空气中灼烧后，质量增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蜡烛受热熔化，冷却后质量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539640" y="83664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B 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640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01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东营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化学反应前后，下列各项中，肯定没有变化的是 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原子数目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②原子的种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分子数目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④分子的种类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元素的种类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⑥物质的总质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物质的种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．①②⑤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．①②③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．①②⑤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．③④⑥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352920" y="54936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36000" y="190080"/>
            <a:ext cx="9037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2012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成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）某化学反应过程的微观示意图如下。下列说法错误的是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原子是化学变化中的最小粒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元素的种类、原子的数目在化学反应前后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在化学变化中分子分成原子，原子又重新组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成新物质的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上述反应的可表示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A+B=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39640" y="1054080"/>
            <a:ext cx="7632720" cy="244800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4"/>
          <p:cNvSpPr/>
          <p:nvPr/>
        </p:nvSpPr>
        <p:spPr>
          <a:xfrm>
            <a:off x="7525800" y="33336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252000" y="259920"/>
            <a:ext cx="8713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2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福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）为某反应的微观示意图，其中“     ”和 “      ” 表示不同元素的原子。下列说法正确的是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．反应前后原子数目发生改变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．反应前后分子种类没有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．该反应属于化合反应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．参加反应的两种分子个数比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∶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3" descr=""/>
          <p:cNvPicPr/>
          <p:nvPr/>
        </p:nvPicPr>
        <p:blipFill>
          <a:blip r:embed="rId1"/>
          <a:srcRect l="0" t="0" r="0" b="24446"/>
          <a:stretch/>
        </p:blipFill>
        <p:spPr>
          <a:xfrm>
            <a:off x="971640" y="1774800"/>
            <a:ext cx="6697440" cy="13683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"/>
          <p:cNvPicPr/>
          <p:nvPr/>
        </p:nvPicPr>
        <p:blipFill>
          <a:blip r:embed="rId2"/>
          <a:stretch/>
        </p:blipFill>
        <p:spPr>
          <a:xfrm rot="21300000">
            <a:off x="2050560" y="765000"/>
            <a:ext cx="2160720" cy="5731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5"/>
          <p:cNvSpPr/>
          <p:nvPr/>
        </p:nvSpPr>
        <p:spPr>
          <a:xfrm>
            <a:off x="7958520" y="112536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252360" y="909720"/>
            <a:ext cx="79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推断反应物或生成物的组成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396720" y="1557360"/>
            <a:ext cx="85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酒精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氧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燃烧生成二氧化碳和水，能否根据这一事实，推断出酒精中肯定会有什么元素？可能会有什么元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828720" y="34290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定有的元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能有的元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4932360" y="335772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5292720" y="414972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532800" y="549360"/>
            <a:ext cx="82483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重庆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高氯酸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用作火箭推进剂，当它发生分解反应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能生成的物质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O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l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. O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 N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7936560" y="14860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36360" y="260280"/>
            <a:ext cx="9001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2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宜宾）一定条件下，下列物质在密闭容器内反应一段时间，测得反应产前后各物质的质量如下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　　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物质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　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　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Y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　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Z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　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反应前质量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/g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　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6.2       0.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反应后质量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/g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　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.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8.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1.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根据上表信息判断，下列说法中不正确的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是反应物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是生成物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．反应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两种物质变化的质量比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︰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9    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为化合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6013800" y="220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180720" y="260280"/>
            <a:ext cx="87836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3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．威海市）下列有关质量守恒定 律的认识，不正确的是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．质量守恒定律揭示了化学变化中宏观物质之间的质量关系，与微观过程无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．通过化学变化，只能改变世界上物质的种类，不能改变物质的总质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．质量守恒定律为定量揭示化学变化的规律，提供了理论依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．随着科技的发展，精密仪器为我们 定量研究化学变化创造了条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4358160" y="54936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181080" y="1125360"/>
            <a:ext cx="8567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4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荆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化学方程式不能获得的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)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反应中的反应物和生成物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各反应物、生成物之间的质量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化学反应速率的快慢程度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反应发生所需要的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7144200" y="1628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1685520" y="1197000"/>
            <a:ext cx="54028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学反应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各反应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质量总和与反应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各生成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质量总和之间可能有哪几种关系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539640" y="40464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提出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79280" y="270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假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042920" y="364500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533520" y="3733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成物的质量总和             反应物的质量总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3924360" y="35733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等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997440" y="263700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852720" y="458136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324000" y="290520"/>
            <a:ext cx="878508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化学方程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P+5O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2P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回答下列问题：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相对原子质量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:31    O: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1844640" y="1628640"/>
            <a:ext cx="56088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个反应有哪些物质参加反应（反应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通过什么条件反应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反应生成了哪些物质（生成物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此反应中的各物质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质量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是多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此反应中各物质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粒子的数量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个化学方程式有几种读法，怎么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"/>
          <p:cNvSpPr/>
          <p:nvPr/>
        </p:nvSpPr>
        <p:spPr>
          <a:xfrm>
            <a:off x="5364000" y="765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5437080" y="44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点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5364000" y="620640"/>
            <a:ext cx="1148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WordArt 2"/>
          <p:cNvSpPr txBox="1"/>
          <p:nvPr/>
        </p:nvSpPr>
        <p:spPr>
          <a:xfrm>
            <a:off x="1116000" y="1844640"/>
            <a:ext cx="6480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再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5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900000" y="47628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68360" y="16286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方案一：白磷燃烧前后质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68360" y="3502080"/>
            <a:ext cx="79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案二：铁与硫酸铜溶液反应前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质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114440" y="620640"/>
            <a:ext cx="9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活动与探究一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8"/>
          <p:cNvSpPr/>
          <p:nvPr/>
        </p:nvSpPr>
        <p:spPr>
          <a:xfrm>
            <a:off x="7380360" y="2421000"/>
            <a:ext cx="1042920" cy="50472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4616" h="21600">
                <a:moveTo>
                  <a:pt x="0" y="0"/>
                </a:moveTo>
                <a:lnTo>
                  <a:pt x="44616" y="0"/>
                </a:lnTo>
                <a:lnTo>
                  <a:pt x="44616" y="21600"/>
                </a:lnTo>
                <a:lnTo>
                  <a:pt x="0" y="21600"/>
                </a:lnTo>
                <a:close/>
              </a:path>
              <a:path fill="lightenLess" w="44616" h="21600">
                <a:moveTo>
                  <a:pt x="0" y="0"/>
                </a:moveTo>
                <a:lnTo>
                  <a:pt x="44616" y="0"/>
                </a:lnTo>
                <a:lnTo>
                  <a:pt x="43216" y="1400"/>
                </a:lnTo>
                <a:lnTo>
                  <a:pt x="1400" y="1400"/>
                </a:lnTo>
                <a:close/>
              </a:path>
              <a:path fill="darken" w="44616" h="21600">
                <a:moveTo>
                  <a:pt x="44616" y="0"/>
                </a:moveTo>
                <a:lnTo>
                  <a:pt x="44616" y="21600"/>
                </a:lnTo>
                <a:lnTo>
                  <a:pt x="43216" y="20200"/>
                </a:lnTo>
                <a:lnTo>
                  <a:pt x="43216" y="1400"/>
                </a:lnTo>
                <a:close/>
              </a:path>
              <a:path fill="darkenLess" w="44616" h="21600">
                <a:moveTo>
                  <a:pt x="44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6" y="20200"/>
                </a:lnTo>
                <a:close/>
              </a:path>
              <a:path fill="lighten" w="44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6" h="21600">
                <a:moveTo>
                  <a:pt x="15302" y="3794"/>
                </a:moveTo>
                <a:lnTo>
                  <a:pt x="29315" y="10800"/>
                </a:lnTo>
                <a:lnTo>
                  <a:pt x="1530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"/>
          <p:cNvSpPr/>
          <p:nvPr/>
        </p:nvSpPr>
        <p:spPr>
          <a:xfrm>
            <a:off x="3852720" y="4292640"/>
            <a:ext cx="1043280" cy="504720"/>
          </a:xfrm>
          <a:custGeom>
            <a:avLst/>
            <a:gdLst>
              <a:gd name="textAreaLeft" fmla="*/ 32400 w 1043280"/>
              <a:gd name="textAreaRight" fmla="*/ 1010880 w 10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4632" h="21600">
                <a:moveTo>
                  <a:pt x="0" y="0"/>
                </a:moveTo>
                <a:lnTo>
                  <a:pt x="44632" y="0"/>
                </a:lnTo>
                <a:lnTo>
                  <a:pt x="44632" y="21600"/>
                </a:lnTo>
                <a:lnTo>
                  <a:pt x="0" y="21600"/>
                </a:lnTo>
                <a:close/>
              </a:path>
              <a:path fill="lightenLess" w="44632" h="21600">
                <a:moveTo>
                  <a:pt x="0" y="0"/>
                </a:moveTo>
                <a:lnTo>
                  <a:pt x="44632" y="0"/>
                </a:lnTo>
                <a:lnTo>
                  <a:pt x="43232" y="1400"/>
                </a:lnTo>
                <a:lnTo>
                  <a:pt x="1400" y="1400"/>
                </a:lnTo>
                <a:close/>
              </a:path>
              <a:path fill="darken" w="44632" h="21600">
                <a:moveTo>
                  <a:pt x="44632" y="0"/>
                </a:moveTo>
                <a:lnTo>
                  <a:pt x="44632" y="21600"/>
                </a:lnTo>
                <a:lnTo>
                  <a:pt x="43232" y="20200"/>
                </a:lnTo>
                <a:lnTo>
                  <a:pt x="43232" y="1400"/>
                </a:lnTo>
                <a:close/>
              </a:path>
              <a:path fill="darkenLess" w="44632" h="21600">
                <a:moveTo>
                  <a:pt x="44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32" y="20200"/>
                </a:lnTo>
                <a:close/>
              </a:path>
              <a:path fill="lighten" w="44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32" h="21600">
                <a:moveTo>
                  <a:pt x="15309" y="3794"/>
                </a:moveTo>
                <a:lnTo>
                  <a:pt x="29322" y="10800"/>
                </a:lnTo>
                <a:lnTo>
                  <a:pt x="1530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0" y="73080"/>
          <a:ext cx="9144000" cy="6727680"/>
        </p:xfrm>
        <a:graphic>
          <a:graphicData uri="http://schemas.openxmlformats.org/drawingml/2006/table">
            <a:tbl>
              <a:tblPr/>
              <a:tblGrid>
                <a:gridCol w="2092320"/>
                <a:gridCol w="3306600"/>
                <a:gridCol w="3745080"/>
              </a:tblGrid>
              <a:tr h="107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微软雅黑"/>
                        </a:rPr>
                        <a:t>实验方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微软雅黑"/>
                        </a:rPr>
                        <a:t>方案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微软雅黑"/>
                        </a:rPr>
                        <a:t>方案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微软雅黑"/>
                        </a:rPr>
                        <a:t>实验现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微软雅黑"/>
                        </a:rPr>
                        <a:t>反应前后各物质质量总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微软雅黑"/>
                        </a:rPr>
                        <a:t>分  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24"/>
          <p:cNvSpPr/>
          <p:nvPr/>
        </p:nvSpPr>
        <p:spPr>
          <a:xfrm>
            <a:off x="2700360" y="328608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相  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2124000" y="119700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白磷燃烧，产生大量白烟；气球先膨胀后缩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5508720" y="1125360"/>
            <a:ext cx="35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铁钉表面覆盖一层红色物质，溶液由蓝色变成浅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7"/>
          <p:cNvSpPr/>
          <p:nvPr/>
        </p:nvSpPr>
        <p:spPr>
          <a:xfrm>
            <a:off x="6372360" y="32860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  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8"/>
          <p:cNvGrpSpPr/>
          <p:nvPr/>
        </p:nvGrpSpPr>
        <p:grpSpPr>
          <a:xfrm>
            <a:off x="2124000" y="4653000"/>
            <a:ext cx="4176720" cy="793080"/>
            <a:chOff x="2124000" y="4653000"/>
            <a:chExt cx="4176720" cy="793080"/>
          </a:xfrm>
        </p:grpSpPr>
        <p:sp>
          <p:nvSpPr>
            <p:cNvPr id="430" name="Text Box 29"/>
            <p:cNvSpPr/>
            <p:nvPr/>
          </p:nvSpPr>
          <p:spPr>
            <a:xfrm>
              <a:off x="2124000" y="4797360"/>
              <a:ext cx="41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P+O</a:t>
              </a:r>
              <a:r>
                <a:rPr b="1" lang="en-US" sz="3200" spc="-1" strike="noStrike" baseline="-25000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        P</a:t>
              </a:r>
              <a:r>
                <a:rPr b="1" lang="en-US" sz="3200" spc="-1" strike="noStrike" baseline="-25000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0"/>
            <p:cNvSpPr/>
            <p:nvPr/>
          </p:nvSpPr>
          <p:spPr>
            <a:xfrm>
              <a:off x="3203640" y="5229360"/>
              <a:ext cx="792000" cy="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31"/>
            <p:cNvSpPr/>
            <p:nvPr/>
          </p:nvSpPr>
          <p:spPr>
            <a:xfrm>
              <a:off x="3132000" y="46530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f01"/>
                  </a:solidFill>
                  <a:latin typeface="Arial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32"/>
          <p:cNvGrpSpPr/>
          <p:nvPr/>
        </p:nvGrpSpPr>
        <p:grpSpPr>
          <a:xfrm>
            <a:off x="1979640" y="5373720"/>
            <a:ext cx="3456000" cy="520560"/>
            <a:chOff x="1979640" y="5373720"/>
            <a:chExt cx="3456000" cy="520560"/>
          </a:xfrm>
        </p:grpSpPr>
        <p:sp>
          <p:nvSpPr>
            <p:cNvPr id="434" name="Text Box 33"/>
            <p:cNvSpPr/>
            <p:nvPr/>
          </p:nvSpPr>
          <p:spPr>
            <a:xfrm>
              <a:off x="1979640" y="537372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宋体"/>
                </a:rPr>
                <a:t>质量总和  质量总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34"/>
            <p:cNvSpPr/>
            <p:nvPr/>
          </p:nvSpPr>
          <p:spPr>
            <a:xfrm>
              <a:off x="3492360" y="5734080"/>
              <a:ext cx="358920" cy="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5"/>
            <p:cNvSpPr/>
            <p:nvPr/>
          </p:nvSpPr>
          <p:spPr>
            <a:xfrm>
              <a:off x="3492360" y="5661000"/>
              <a:ext cx="358920" cy="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36"/>
          <p:cNvGrpSpPr/>
          <p:nvPr/>
        </p:nvGrpSpPr>
        <p:grpSpPr>
          <a:xfrm>
            <a:off x="5435640" y="5373720"/>
            <a:ext cx="3708360" cy="520560"/>
            <a:chOff x="5435640" y="5373720"/>
            <a:chExt cx="3708360" cy="520560"/>
          </a:xfrm>
        </p:grpSpPr>
        <p:sp>
          <p:nvSpPr>
            <p:cNvPr id="438" name="Text Box 37"/>
            <p:cNvSpPr/>
            <p:nvPr/>
          </p:nvSpPr>
          <p:spPr>
            <a:xfrm>
              <a:off x="5435640" y="5373720"/>
              <a:ext cx="370836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质量总和   质量总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8"/>
            <p:cNvSpPr/>
            <p:nvPr/>
          </p:nvSpPr>
          <p:spPr>
            <a:xfrm>
              <a:off x="7020000" y="5734080"/>
              <a:ext cx="371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9"/>
            <p:cNvSpPr/>
            <p:nvPr/>
          </p:nvSpPr>
          <p:spPr>
            <a:xfrm>
              <a:off x="7020000" y="5661000"/>
              <a:ext cx="37152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5003640" y="4797360"/>
            <a:ext cx="4140360" cy="579600"/>
            <a:chOff x="5003640" y="4797360"/>
            <a:chExt cx="4140360" cy="579600"/>
          </a:xfrm>
        </p:grpSpPr>
        <p:sp>
          <p:nvSpPr>
            <p:cNvPr id="442" name="Text Box 41"/>
            <p:cNvSpPr/>
            <p:nvPr/>
          </p:nvSpPr>
          <p:spPr>
            <a:xfrm>
              <a:off x="5003640" y="4797360"/>
              <a:ext cx="414036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Fe+CuSO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Arial"/>
                </a:rPr>
                <a:t>4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    Cu+FeSO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2"/>
            <p:cNvSpPr/>
            <p:nvPr/>
          </p:nvSpPr>
          <p:spPr>
            <a:xfrm>
              <a:off x="6804000" y="501336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971640" y="270828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参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化学反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各物质的质量总和等于反应后生成的各物质的质量总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1042920" y="1197000"/>
            <a:ext cx="52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质量守恒定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971640" y="3357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质量总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2633760" y="4035600"/>
            <a:ext cx="24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质量总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5791320" y="266688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781040" y="3357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3439440" y="2709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化学反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428640" y="3357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等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2700360" y="3333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活动与探究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900000" y="1413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镁带燃烧前后质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2559960" y="2421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盐酸与碳酸钠反应前后质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8101080" y="249228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121" h="21600">
                <a:moveTo>
                  <a:pt x="19054" y="3794"/>
                </a:moveTo>
                <a:lnTo>
                  <a:pt x="33067" y="10800"/>
                </a:lnTo>
                <a:lnTo>
                  <a:pt x="1905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5_5"/>
          <p:cNvPicPr/>
          <p:nvPr/>
        </p:nvPicPr>
        <p:blipFill>
          <a:blip r:embed="rId1"/>
          <a:stretch/>
        </p:blipFill>
        <p:spPr>
          <a:xfrm>
            <a:off x="1547640" y="3070080"/>
            <a:ext cx="633600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0" y="0"/>
            <a:ext cx="9144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理解和应用质量守恒定律时要注意以下几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质量守恒定律是一切化学反应必须遵守的一个定律，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物理变化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不属于此定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质量守恒定律研究的仅是指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质量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”，不能任意扩展到其它物理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守恒的数量是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总质量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”，不是部分反应物和生成物的质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守恒的范围是“参加化学反应的各物质”，没有参加反应的物质，不能计算在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539640" y="2133720"/>
            <a:ext cx="1584360" cy="3309840"/>
            <a:chOff x="539640" y="2133720"/>
            <a:chExt cx="1584360" cy="3309840"/>
          </a:xfrm>
        </p:grpSpPr>
        <p:grpSp>
          <p:nvGrpSpPr>
            <p:cNvPr id="459" name="Group 3"/>
            <p:cNvGrpSpPr/>
            <p:nvPr/>
          </p:nvGrpSpPr>
          <p:grpSpPr>
            <a:xfrm>
              <a:off x="539640" y="2133720"/>
              <a:ext cx="1584360" cy="1438200"/>
              <a:chOff x="539640" y="2133720"/>
              <a:chExt cx="1584360" cy="1438200"/>
            </a:xfrm>
          </p:grpSpPr>
          <p:sp>
            <p:nvSpPr>
              <p:cNvPr id="460" name="Oval 4"/>
              <p:cNvSpPr/>
              <p:nvPr/>
            </p:nvSpPr>
            <p:spPr>
              <a:xfrm>
                <a:off x="539640" y="2276640"/>
                <a:ext cx="1297080" cy="1152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a2a2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5"/>
              <p:cNvSpPr/>
              <p:nvPr/>
            </p:nvSpPr>
            <p:spPr>
              <a:xfrm>
                <a:off x="900000" y="2637000"/>
                <a:ext cx="504720" cy="504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66ff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6"/>
              <p:cNvSpPr/>
              <p:nvPr/>
            </p:nvSpPr>
            <p:spPr>
              <a:xfrm>
                <a:off x="1619280" y="2133720"/>
                <a:ext cx="504720" cy="5032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d27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>
                <a:off x="1619280" y="3068640"/>
                <a:ext cx="504720" cy="5032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d27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8"/>
            <p:cNvGrpSpPr/>
            <p:nvPr/>
          </p:nvGrpSpPr>
          <p:grpSpPr>
            <a:xfrm>
              <a:off x="539640" y="4005360"/>
              <a:ext cx="1584360" cy="1438200"/>
              <a:chOff x="539640" y="4005360"/>
              <a:chExt cx="1584360" cy="1438200"/>
            </a:xfrm>
          </p:grpSpPr>
          <p:sp>
            <p:nvSpPr>
              <p:cNvPr id="465" name="Oval 9"/>
              <p:cNvSpPr/>
              <p:nvPr/>
            </p:nvSpPr>
            <p:spPr>
              <a:xfrm>
                <a:off x="539640" y="4148280"/>
                <a:ext cx="1297080" cy="1152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a2a2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0"/>
              <p:cNvSpPr/>
              <p:nvPr/>
            </p:nvSpPr>
            <p:spPr>
              <a:xfrm>
                <a:off x="900000" y="4508640"/>
                <a:ext cx="504720" cy="504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66ff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11"/>
              <p:cNvSpPr/>
              <p:nvPr/>
            </p:nvSpPr>
            <p:spPr>
              <a:xfrm>
                <a:off x="1619280" y="4005360"/>
                <a:ext cx="504720" cy="5032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d27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>
                <a:off x="1619280" y="4940280"/>
                <a:ext cx="504720" cy="5032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d27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13"/>
          <p:cNvSpPr/>
          <p:nvPr/>
        </p:nvSpPr>
        <p:spPr>
          <a:xfrm>
            <a:off x="684360" y="5805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水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3234960" y="2602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电解水的微观实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3:37:10Z</dcterms:created>
  <dc:creator>Administrator</dc:creator>
  <dc:description/>
  <cp:keywords/>
  <dc:language>en-US</dc:language>
  <cp:lastModifiedBy>admin</cp:lastModifiedBy>
  <dcterms:modified xsi:type="dcterms:W3CDTF">2017-11-07T07:24:54Z</dcterms:modified>
  <cp:revision>131</cp:revision>
  <dc:subject/>
  <dc:title>课题1 质量守恒定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